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6F8A-C0C5-4328-850B-3F2ED6C9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F80C-62AC-4E22-BD63-9FD3BAD3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2D58-9333-4C5A-B0CA-0D6AC49A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87A3-D9C6-4AE9-A65A-5FC584DF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F2E2-367D-427B-9ECF-7D3DD4C0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41C3-ECC1-4EC4-BDCB-E79B3AF2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4341-FF10-40E6-8F8C-A0A0E425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408B-95E4-4163-8FD3-1F54DB1B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B0D7-9C11-4826-B576-45B21C52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A8C1-67F1-42C6-A146-89DD2D72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A6AF-7083-47C9-ABE9-B75D1DFA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384B-BDBC-4E1B-912F-1FD63210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56F7-B304-451E-82E4-09294E5A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4801-0647-4DD2-ABF0-E50693BC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6294-1B11-4CE4-8686-BD783E05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E76D-CC56-450D-B604-53EA3FFB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A071-8B3E-4676-AEA7-028063FE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C869-907E-4F10-90A1-6A8FEB92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23E4-E8D3-428E-A65E-543797E1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1D17-128E-4431-8050-CCF7500D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D840-C70A-4C28-A86D-9E5A14F9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98D5-5E56-428F-AB64-366BCDD8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2FC9-5F68-4F8C-BBC1-5DFE9808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3B3-37B9-4994-B3B8-59415D6F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18B3-8393-43DF-93C5-3DA3D6D4472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1C00-E08B-4F68-8FB1-516BCD94307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Warm-up:  MSA Review Day 8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mic Sans MS"/>
              </a:rPr>
              <a:t>Unit 7: Measuremen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47960" y="2971800"/>
            <a:ext cx="40129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bjective:  Students will find volume of a rectangular prism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25360" y="4518000"/>
            <a:ext cx="455760" cy="125280"/>
          </a:xfrm>
          <a:custGeom>
            <a:avLst/>
            <a:gdLst/>
            <a:ahLst/>
            <a:rect l="l" t="t" r="r" b="b"/>
            <a:pathLst>
              <a:path w="1266" h="348">
                <a:moveTo>
                  <a:pt x="3324" y="12576"/>
                </a:moveTo>
                <a:cubicBezTo>
                  <a:pt x="3463" y="12558"/>
                  <a:pt x="3530" y="12520"/>
                  <a:pt x="3597" y="12601"/>
                </a:cubicBezTo>
              </a:path>
              <a:path w="1266" h="348">
                <a:moveTo>
                  <a:pt x="3125" y="12874"/>
                </a:moveTo>
                <a:cubicBezTo>
                  <a:pt x="3283" y="12867"/>
                  <a:pt x="3439" y="12855"/>
                  <a:pt x="3597" y="12849"/>
                </a:cubicBezTo>
              </a:path>
              <a:path w="1266" h="348">
                <a:moveTo>
                  <a:pt x="4366" y="12824"/>
                </a:moveTo>
                <a:cubicBezTo>
                  <a:pt x="4366" y="12869"/>
                  <a:pt x="4362" y="12882"/>
                  <a:pt x="4390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6160" y="4367160"/>
            <a:ext cx="250920" cy="446040"/>
          </a:xfrm>
          <a:custGeom>
            <a:avLst/>
            <a:gdLst/>
            <a:ahLst/>
            <a:rect l="l" t="t" r="r" b="b"/>
            <a:pathLst>
              <a:path w="696" h="1242">
                <a:moveTo>
                  <a:pt x="2158" y="12154"/>
                </a:moveTo>
                <a:cubicBezTo>
                  <a:pt x="2340" y="12551"/>
                  <a:pt x="2480" y="12915"/>
                  <a:pt x="2555" y="13345"/>
                </a:cubicBezTo>
                <a:cubicBezTo>
                  <a:pt x="2628" y="13248"/>
                  <a:pt x="2621" y="12622"/>
                  <a:pt x="2679" y="12402"/>
                </a:cubicBezTo>
                <a:cubicBezTo>
                  <a:pt x="2720" y="12247"/>
                  <a:pt x="2733" y="12106"/>
                  <a:pt x="2853" y="121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93920" y="4313160"/>
            <a:ext cx="34920" cy="473040"/>
          </a:xfrm>
          <a:custGeom>
            <a:avLst/>
            <a:gdLst/>
            <a:ahLst/>
            <a:rect l="l" t="t" r="r" b="b"/>
            <a:pathLst>
              <a:path w="100" h="1315">
                <a:moveTo>
                  <a:pt x="3870" y="11981"/>
                </a:moveTo>
                <a:cubicBezTo>
                  <a:pt x="3913" y="12392"/>
                  <a:pt x="3958" y="12785"/>
                  <a:pt x="3944" y="13196"/>
                </a:cubicBezTo>
                <a:cubicBezTo>
                  <a:pt x="3944" y="13280"/>
                  <a:pt x="3937" y="13326"/>
                  <a:pt x="3969" y="132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14680" y="4357800"/>
            <a:ext cx="758520" cy="384120"/>
          </a:xfrm>
          <a:custGeom>
            <a:avLst/>
            <a:gdLst/>
            <a:ahLst/>
            <a:rect l="l" t="t" r="r" b="b"/>
            <a:pathLst>
              <a:path w="2110" h="1067">
                <a:moveTo>
                  <a:pt x="4787" y="12526"/>
                </a:moveTo>
                <a:cubicBezTo>
                  <a:pt x="4769" y="12648"/>
                  <a:pt x="4677" y="13070"/>
                  <a:pt x="4862" y="13122"/>
                </a:cubicBezTo>
                <a:cubicBezTo>
                  <a:pt x="4977" y="13154"/>
                  <a:pt x="5059" y="12816"/>
                  <a:pt x="5085" y="12750"/>
                </a:cubicBezTo>
                <a:cubicBezTo>
                  <a:pt x="5085" y="12991"/>
                  <a:pt x="5109" y="13055"/>
                  <a:pt x="5283" y="13171"/>
                </a:cubicBezTo>
                <a:cubicBezTo>
                  <a:pt x="5365" y="13039"/>
                  <a:pt x="5536" y="12724"/>
                  <a:pt x="5283" y="12626"/>
                </a:cubicBezTo>
                <a:cubicBezTo>
                  <a:pt x="5267" y="12634"/>
                  <a:pt x="5250" y="12642"/>
                  <a:pt x="5234" y="12650"/>
                </a:cubicBezTo>
              </a:path>
              <a:path w="2110" h="1067">
                <a:moveTo>
                  <a:pt x="5705" y="12774"/>
                </a:moveTo>
                <a:cubicBezTo>
                  <a:pt x="5705" y="12868"/>
                  <a:pt x="5679" y="12835"/>
                  <a:pt x="5779" y="12824"/>
                </a:cubicBezTo>
              </a:path>
              <a:path w="2110" h="1067">
                <a:moveTo>
                  <a:pt x="6028" y="12105"/>
                </a:moveTo>
                <a:cubicBezTo>
                  <a:pt x="6056" y="12445"/>
                  <a:pt x="6077" y="12781"/>
                  <a:pt x="6077" y="13122"/>
                </a:cubicBezTo>
                <a:cubicBezTo>
                  <a:pt x="6147" y="12842"/>
                  <a:pt x="6166" y="12675"/>
                  <a:pt x="6350" y="12452"/>
                </a:cubicBezTo>
                <a:cubicBezTo>
                  <a:pt x="6436" y="12596"/>
                  <a:pt x="6488" y="13074"/>
                  <a:pt x="6598" y="13146"/>
                </a:cubicBezTo>
                <a:cubicBezTo>
                  <a:pt x="6740" y="13146"/>
                  <a:pt x="6797" y="13136"/>
                  <a:pt x="6871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:  Students will find area of a rectangular prism.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Vocabula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Volume: amount of space a solid occupies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4343400"/>
            <a:ext cx="1447920" cy="152388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5943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610480" y="5715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390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2240" y="4608360"/>
            <a:ext cx="573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lume of a rectangular prism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lume = length x width x heig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w</a:t>
            </a:r>
            <a:r>
              <a:rPr b="0" i="1" lang="en-US" sz="2400" spc="-1" strike="noStrike">
                <a:solidFill>
                  <a:srgbClr val="ff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38800" y="3724200"/>
            <a:ext cx="339480" cy="204840"/>
          </a:xfrm>
          <a:custGeom>
            <a:avLst/>
            <a:gdLst/>
            <a:ahLst/>
            <a:rect l="l" t="t" r="r" b="b"/>
            <a:pathLst>
              <a:path w="944" h="571">
                <a:moveTo>
                  <a:pt x="12328" y="10641"/>
                </a:moveTo>
                <a:cubicBezTo>
                  <a:pt x="12328" y="10633"/>
                  <a:pt x="12328" y="10624"/>
                  <a:pt x="12328" y="10616"/>
                </a:cubicBezTo>
              </a:path>
              <a:path w="944" h="571">
                <a:moveTo>
                  <a:pt x="12378" y="10716"/>
                </a:moveTo>
                <a:lnTo>
                  <a:pt x="12378" y="10716"/>
                </a:lnTo>
                <a:lnTo>
                  <a:pt x="12378" y="10716"/>
                </a:lnTo>
              </a:path>
              <a:path w="944" h="571">
                <a:moveTo>
                  <a:pt x="12378" y="10716"/>
                </a:moveTo>
                <a:lnTo>
                  <a:pt x="12378" y="10716"/>
                </a:lnTo>
              </a:path>
              <a:path w="944" h="571">
                <a:moveTo>
                  <a:pt x="13221" y="10641"/>
                </a:moveTo>
                <a:cubicBezTo>
                  <a:pt x="13225" y="10702"/>
                  <a:pt x="13231" y="10929"/>
                  <a:pt x="13271" y="10889"/>
                </a:cubicBezTo>
              </a:path>
              <a:path w="944" h="571">
                <a:moveTo>
                  <a:pt x="13271" y="10889"/>
                </a:moveTo>
                <a:lnTo>
                  <a:pt x="13271" y="10889"/>
                </a:lnTo>
              </a:path>
              <a:path w="944" h="571">
                <a:moveTo>
                  <a:pt x="13122" y="10344"/>
                </a:moveTo>
                <a:lnTo>
                  <a:pt x="13122" y="1034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52880" y="3581280"/>
            <a:ext cx="446040" cy="419400"/>
          </a:xfrm>
          <a:custGeom>
            <a:avLst/>
            <a:gdLst/>
            <a:ahLst/>
            <a:rect l="l" t="t" r="r" b="b"/>
            <a:pathLst>
              <a:path w="1241" h="1166">
                <a:moveTo>
                  <a:pt x="8880" y="9947"/>
                </a:moveTo>
                <a:cubicBezTo>
                  <a:pt x="8880" y="10171"/>
                  <a:pt x="8786" y="10350"/>
                  <a:pt x="8756" y="10567"/>
                </a:cubicBezTo>
                <a:cubicBezTo>
                  <a:pt x="8728" y="10766"/>
                  <a:pt x="8779" y="10999"/>
                  <a:pt x="8954" y="11112"/>
                </a:cubicBezTo>
                <a:cubicBezTo>
                  <a:pt x="8962" y="11112"/>
                  <a:pt x="8971" y="11112"/>
                  <a:pt x="8979" y="11112"/>
                </a:cubicBezTo>
              </a:path>
              <a:path w="1241" h="1166">
                <a:moveTo>
                  <a:pt x="9426" y="10468"/>
                </a:moveTo>
                <a:cubicBezTo>
                  <a:pt x="9279" y="10513"/>
                  <a:pt x="9103" y="10676"/>
                  <a:pt x="9103" y="10864"/>
                </a:cubicBezTo>
                <a:cubicBezTo>
                  <a:pt x="9103" y="11129"/>
                  <a:pt x="9438" y="10998"/>
                  <a:pt x="9475" y="10815"/>
                </a:cubicBezTo>
                <a:cubicBezTo>
                  <a:pt x="9508" y="10653"/>
                  <a:pt x="9395" y="10633"/>
                  <a:pt x="9351" y="10567"/>
                </a:cubicBezTo>
              </a:path>
              <a:path w="1241" h="1166">
                <a:moveTo>
                  <a:pt x="9649" y="10616"/>
                </a:moveTo>
                <a:cubicBezTo>
                  <a:pt x="9665" y="10682"/>
                  <a:pt x="9755" y="10906"/>
                  <a:pt x="9723" y="10964"/>
                </a:cubicBezTo>
                <a:cubicBezTo>
                  <a:pt x="9715" y="10964"/>
                  <a:pt x="9707" y="10964"/>
                  <a:pt x="9699" y="10964"/>
                </a:cubicBezTo>
                <a:cubicBezTo>
                  <a:pt x="9658" y="10759"/>
                  <a:pt x="9681" y="10613"/>
                  <a:pt x="9897" y="10517"/>
                </a:cubicBezTo>
                <a:cubicBezTo>
                  <a:pt x="9958" y="10517"/>
                  <a:pt x="9974" y="10508"/>
                  <a:pt x="9996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30760" y="3697200"/>
            <a:ext cx="1544400" cy="463680"/>
          </a:xfrm>
          <a:custGeom>
            <a:avLst/>
            <a:gdLst/>
            <a:ahLst/>
            <a:rect l="l" t="t" r="r" b="b"/>
            <a:pathLst>
              <a:path w="4292" h="1291">
                <a:moveTo>
                  <a:pt x="10864" y="10542"/>
                </a:moveTo>
                <a:cubicBezTo>
                  <a:pt x="10921" y="10580"/>
                  <a:pt x="10946" y="10574"/>
                  <a:pt x="10939" y="10616"/>
                </a:cubicBezTo>
                <a:cubicBezTo>
                  <a:pt x="10914" y="10543"/>
                  <a:pt x="10870" y="10498"/>
                  <a:pt x="10815" y="10443"/>
                </a:cubicBezTo>
                <a:cubicBezTo>
                  <a:pt x="10677" y="10471"/>
                  <a:pt x="10631" y="10665"/>
                  <a:pt x="10641" y="10790"/>
                </a:cubicBezTo>
                <a:cubicBezTo>
                  <a:pt x="10661" y="11040"/>
                  <a:pt x="10963" y="10968"/>
                  <a:pt x="11112" y="10914"/>
                </a:cubicBezTo>
                <a:cubicBezTo>
                  <a:pt x="11145" y="10897"/>
                  <a:pt x="11179" y="10881"/>
                  <a:pt x="11212" y="10864"/>
                </a:cubicBezTo>
              </a:path>
              <a:path w="4292" h="1291">
                <a:moveTo>
                  <a:pt x="11410" y="10567"/>
                </a:moveTo>
                <a:cubicBezTo>
                  <a:pt x="11334" y="10546"/>
                  <a:pt x="11278" y="10513"/>
                  <a:pt x="11212" y="10592"/>
                </a:cubicBezTo>
                <a:cubicBezTo>
                  <a:pt x="11076" y="10754"/>
                  <a:pt x="11111" y="10787"/>
                  <a:pt x="11212" y="10914"/>
                </a:cubicBezTo>
                <a:cubicBezTo>
                  <a:pt x="11421" y="10862"/>
                  <a:pt x="11410" y="10803"/>
                  <a:pt x="11410" y="10592"/>
                </a:cubicBezTo>
                <a:cubicBezTo>
                  <a:pt x="11435" y="10698"/>
                  <a:pt x="11458" y="10836"/>
                  <a:pt x="11584" y="10889"/>
                </a:cubicBezTo>
                <a:cubicBezTo>
                  <a:pt x="11715" y="10944"/>
                  <a:pt x="11711" y="10817"/>
                  <a:pt x="11733" y="10740"/>
                </a:cubicBezTo>
                <a:cubicBezTo>
                  <a:pt x="11757" y="10944"/>
                  <a:pt x="11799" y="11154"/>
                  <a:pt x="11782" y="11361"/>
                </a:cubicBezTo>
                <a:cubicBezTo>
                  <a:pt x="11774" y="11386"/>
                  <a:pt x="11765" y="11410"/>
                  <a:pt x="11757" y="11435"/>
                </a:cubicBezTo>
                <a:cubicBezTo>
                  <a:pt x="11747" y="11246"/>
                  <a:pt x="11711" y="11054"/>
                  <a:pt x="11733" y="10864"/>
                </a:cubicBezTo>
                <a:cubicBezTo>
                  <a:pt x="11777" y="10709"/>
                  <a:pt x="11782" y="10666"/>
                  <a:pt x="11857" y="10592"/>
                </a:cubicBezTo>
                <a:cubicBezTo>
                  <a:pt x="12012" y="10623"/>
                  <a:pt x="12297" y="10768"/>
                  <a:pt x="12055" y="10964"/>
                </a:cubicBezTo>
                <a:cubicBezTo>
                  <a:pt x="11919" y="11074"/>
                  <a:pt x="11809" y="11016"/>
                  <a:pt x="11757" y="10939"/>
                </a:cubicBezTo>
              </a:path>
              <a:path w="4292" h="1291">
                <a:moveTo>
                  <a:pt x="12378" y="10666"/>
                </a:moveTo>
                <a:cubicBezTo>
                  <a:pt x="12417" y="10653"/>
                  <a:pt x="12388" y="10654"/>
                  <a:pt x="12427" y="10641"/>
                </a:cubicBezTo>
                <a:cubicBezTo>
                  <a:pt x="12389" y="10596"/>
                  <a:pt x="12342" y="10531"/>
                  <a:pt x="12303" y="10616"/>
                </a:cubicBezTo>
                <a:cubicBezTo>
                  <a:pt x="12255" y="10722"/>
                  <a:pt x="12199" y="11092"/>
                  <a:pt x="12452" y="10939"/>
                </a:cubicBezTo>
                <a:cubicBezTo>
                  <a:pt x="12594" y="10853"/>
                  <a:pt x="12466" y="10631"/>
                  <a:pt x="12526" y="10716"/>
                </a:cubicBezTo>
                <a:cubicBezTo>
                  <a:pt x="12635" y="10870"/>
                  <a:pt x="12692" y="10951"/>
                  <a:pt x="12799" y="10790"/>
                </a:cubicBezTo>
              </a:path>
              <a:path w="4292" h="1291">
                <a:moveTo>
                  <a:pt x="12874" y="10666"/>
                </a:moveTo>
                <a:cubicBezTo>
                  <a:pt x="12896" y="10689"/>
                  <a:pt x="12901" y="10697"/>
                  <a:pt x="12923" y="10691"/>
                </a:cubicBezTo>
                <a:cubicBezTo>
                  <a:pt x="12919" y="10674"/>
                  <a:pt x="12885" y="10589"/>
                  <a:pt x="12849" y="10616"/>
                </a:cubicBezTo>
                <a:cubicBezTo>
                  <a:pt x="12679" y="10742"/>
                  <a:pt x="12730" y="11012"/>
                  <a:pt x="12973" y="10964"/>
                </a:cubicBezTo>
                <a:cubicBezTo>
                  <a:pt x="13126" y="10887"/>
                  <a:pt x="13177" y="10859"/>
                  <a:pt x="13221" y="10740"/>
                </a:cubicBezTo>
              </a:path>
              <a:path w="4292" h="1291">
                <a:moveTo>
                  <a:pt x="13519" y="10319"/>
                </a:moveTo>
                <a:cubicBezTo>
                  <a:pt x="13566" y="10522"/>
                  <a:pt x="13609" y="10732"/>
                  <a:pt x="13643" y="10939"/>
                </a:cubicBezTo>
                <a:cubicBezTo>
                  <a:pt x="13643" y="10964"/>
                  <a:pt x="13643" y="10972"/>
                  <a:pt x="13643" y="10939"/>
                </a:cubicBezTo>
              </a:path>
              <a:path w="4292" h="1291">
                <a:moveTo>
                  <a:pt x="13345" y="10641"/>
                </a:moveTo>
                <a:cubicBezTo>
                  <a:pt x="13529" y="10693"/>
                  <a:pt x="13714" y="10673"/>
                  <a:pt x="13891" y="10716"/>
                </a:cubicBezTo>
                <a:cubicBezTo>
                  <a:pt x="13961" y="10733"/>
                  <a:pt x="13889" y="10908"/>
                  <a:pt x="14039" y="10914"/>
                </a:cubicBezTo>
                <a:cubicBezTo>
                  <a:pt x="14183" y="10919"/>
                  <a:pt x="14163" y="10757"/>
                  <a:pt x="14163" y="10666"/>
                </a:cubicBezTo>
                <a:cubicBezTo>
                  <a:pt x="14182" y="10808"/>
                  <a:pt x="14238" y="10940"/>
                  <a:pt x="14238" y="11088"/>
                </a:cubicBezTo>
                <a:cubicBezTo>
                  <a:pt x="14238" y="11313"/>
                  <a:pt x="14085" y="11661"/>
                  <a:pt x="13791" y="11559"/>
                </a:cubicBezTo>
                <a:cubicBezTo>
                  <a:pt x="13712" y="11453"/>
                  <a:pt x="13688" y="11411"/>
                  <a:pt x="13742" y="11311"/>
                </a:cubicBezTo>
              </a:path>
              <a:path w="4292" h="1291">
                <a:moveTo>
                  <a:pt x="14585" y="10269"/>
                </a:moveTo>
                <a:cubicBezTo>
                  <a:pt x="14824" y="10595"/>
                  <a:pt x="15097" y="10827"/>
                  <a:pt x="14784" y="11187"/>
                </a:cubicBezTo>
                <a:cubicBezTo>
                  <a:pt x="14713" y="11268"/>
                  <a:pt x="14603" y="11357"/>
                  <a:pt x="14684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04040" y="4313160"/>
            <a:ext cx="1403280" cy="438120"/>
          </a:xfrm>
          <a:custGeom>
            <a:avLst/>
            <a:gdLst/>
            <a:ahLst/>
            <a:rect l="l" t="t" r="r" b="b"/>
            <a:pathLst>
              <a:path w="3896" h="1216">
                <a:moveTo>
                  <a:pt x="23267" y="12973"/>
                </a:moveTo>
                <a:cubicBezTo>
                  <a:pt x="23392" y="12866"/>
                  <a:pt x="23540" y="12788"/>
                  <a:pt x="23664" y="12675"/>
                </a:cubicBezTo>
                <a:cubicBezTo>
                  <a:pt x="23816" y="12538"/>
                  <a:pt x="23976" y="12379"/>
                  <a:pt x="24110" y="12229"/>
                </a:cubicBezTo>
                <a:cubicBezTo>
                  <a:pt x="24197" y="12131"/>
                  <a:pt x="24126" y="12127"/>
                  <a:pt x="24135" y="12105"/>
                </a:cubicBezTo>
                <a:cubicBezTo>
                  <a:pt x="24028" y="12318"/>
                  <a:pt x="23854" y="12551"/>
                  <a:pt x="23688" y="12725"/>
                </a:cubicBezTo>
                <a:cubicBezTo>
                  <a:pt x="23593" y="12824"/>
                  <a:pt x="23319" y="13119"/>
                  <a:pt x="23416" y="13022"/>
                </a:cubicBezTo>
                <a:cubicBezTo>
                  <a:pt x="23498" y="12939"/>
                  <a:pt x="23690" y="12697"/>
                  <a:pt x="23763" y="12601"/>
                </a:cubicBezTo>
                <a:cubicBezTo>
                  <a:pt x="23906" y="12412"/>
                  <a:pt x="24057" y="12226"/>
                  <a:pt x="24185" y="12030"/>
                </a:cubicBezTo>
                <a:cubicBezTo>
                  <a:pt x="24061" y="12116"/>
                  <a:pt x="24045" y="12112"/>
                  <a:pt x="23912" y="12278"/>
                </a:cubicBezTo>
                <a:cubicBezTo>
                  <a:pt x="23729" y="12507"/>
                  <a:pt x="23499" y="12892"/>
                  <a:pt x="23242" y="13047"/>
                </a:cubicBezTo>
                <a:cubicBezTo>
                  <a:pt x="23185" y="13081"/>
                  <a:pt x="23142" y="13072"/>
                  <a:pt x="23068" y="13072"/>
                </a:cubicBezTo>
                <a:cubicBezTo>
                  <a:pt x="22812" y="13072"/>
                  <a:pt x="22561" y="13046"/>
                  <a:pt x="22299" y="13072"/>
                </a:cubicBezTo>
                <a:cubicBezTo>
                  <a:pt x="22067" y="13095"/>
                  <a:pt x="21836" y="13130"/>
                  <a:pt x="21605" y="13146"/>
                </a:cubicBezTo>
                <a:cubicBezTo>
                  <a:pt x="21480" y="13155"/>
                  <a:pt x="21115" y="13211"/>
                  <a:pt x="21233" y="13171"/>
                </a:cubicBezTo>
                <a:cubicBezTo>
                  <a:pt x="21304" y="13147"/>
                  <a:pt x="21332" y="13158"/>
                  <a:pt x="21406" y="13146"/>
                </a:cubicBezTo>
                <a:cubicBezTo>
                  <a:pt x="21719" y="13099"/>
                  <a:pt x="22665" y="13083"/>
                  <a:pt x="22349" y="13097"/>
                </a:cubicBezTo>
                <a:cubicBezTo>
                  <a:pt x="22065" y="13109"/>
                  <a:pt x="21748" y="13063"/>
                  <a:pt x="21456" y="13022"/>
                </a:cubicBezTo>
                <a:cubicBezTo>
                  <a:pt x="21216" y="12989"/>
                  <a:pt x="20499" y="12971"/>
                  <a:pt x="20737" y="12923"/>
                </a:cubicBezTo>
                <a:cubicBezTo>
                  <a:pt x="21014" y="12867"/>
                  <a:pt x="21431" y="12900"/>
                  <a:pt x="21729" y="12898"/>
                </a:cubicBezTo>
                <a:cubicBezTo>
                  <a:pt x="21979" y="12896"/>
                  <a:pt x="22671" y="12916"/>
                  <a:pt x="22423" y="12948"/>
                </a:cubicBezTo>
                <a:cubicBezTo>
                  <a:pt x="22349" y="12948"/>
                  <a:pt x="22274" y="12948"/>
                  <a:pt x="22200" y="12948"/>
                </a:cubicBezTo>
                <a:cubicBezTo>
                  <a:pt x="21703" y="12908"/>
                  <a:pt x="21211" y="12850"/>
                  <a:pt x="20712" y="12874"/>
                </a:cubicBezTo>
                <a:cubicBezTo>
                  <a:pt x="20547" y="12892"/>
                  <a:pt x="20531" y="12900"/>
                  <a:pt x="20439" y="12898"/>
                </a:cubicBezTo>
                <a:cubicBezTo>
                  <a:pt x="21069" y="12898"/>
                  <a:pt x="21694" y="12952"/>
                  <a:pt x="22324" y="12973"/>
                </a:cubicBezTo>
                <a:cubicBezTo>
                  <a:pt x="22531" y="12973"/>
                  <a:pt x="22574" y="12965"/>
                  <a:pt x="22696" y="12998"/>
                </a:cubicBezTo>
                <a:cubicBezTo>
                  <a:pt x="22374" y="12981"/>
                  <a:pt x="22051" y="12964"/>
                  <a:pt x="21729" y="12948"/>
                </a:cubicBezTo>
                <a:cubicBezTo>
                  <a:pt x="21309" y="12927"/>
                  <a:pt x="20908" y="12924"/>
                  <a:pt x="20489" y="12948"/>
                </a:cubicBezTo>
                <a:cubicBezTo>
                  <a:pt x="20416" y="12966"/>
                  <a:pt x="20361" y="12913"/>
                  <a:pt x="20315" y="12973"/>
                </a:cubicBezTo>
                <a:cubicBezTo>
                  <a:pt x="20039" y="13336"/>
                  <a:pt x="21223" y="12985"/>
                  <a:pt x="21679" y="12998"/>
                </a:cubicBezTo>
                <a:cubicBezTo>
                  <a:pt x="21970" y="13006"/>
                  <a:pt x="22694" y="12832"/>
                  <a:pt x="22498" y="13047"/>
                </a:cubicBezTo>
                <a:cubicBezTo>
                  <a:pt x="22344" y="13215"/>
                  <a:pt x="21946" y="13192"/>
                  <a:pt x="21729" y="13196"/>
                </a:cubicBezTo>
                <a:cubicBezTo>
                  <a:pt x="21481" y="13196"/>
                  <a:pt x="21431" y="13196"/>
                  <a:pt x="21282" y="13196"/>
                </a:cubicBezTo>
                <a:cubicBezTo>
                  <a:pt x="21517" y="13178"/>
                  <a:pt x="21741" y="13130"/>
                  <a:pt x="21977" y="13097"/>
                </a:cubicBezTo>
                <a:cubicBezTo>
                  <a:pt x="22183" y="13068"/>
                  <a:pt x="22762" y="13151"/>
                  <a:pt x="22944" y="13072"/>
                </a:cubicBezTo>
                <a:cubicBezTo>
                  <a:pt x="23029" y="13035"/>
                  <a:pt x="23077" y="12921"/>
                  <a:pt x="23143" y="12849"/>
                </a:cubicBezTo>
                <a:cubicBezTo>
                  <a:pt x="23329" y="12646"/>
                  <a:pt x="23515" y="12442"/>
                  <a:pt x="23688" y="12229"/>
                </a:cubicBezTo>
                <a:cubicBezTo>
                  <a:pt x="23723" y="12186"/>
                  <a:pt x="23783" y="12103"/>
                  <a:pt x="23763" y="12154"/>
                </a:cubicBezTo>
                <a:cubicBezTo>
                  <a:pt x="23642" y="12464"/>
                  <a:pt x="23420" y="12671"/>
                  <a:pt x="23192" y="12898"/>
                </a:cubicBezTo>
                <a:cubicBezTo>
                  <a:pt x="23068" y="13022"/>
                  <a:pt x="22934" y="13196"/>
                  <a:pt x="23192" y="12898"/>
                </a:cubicBezTo>
                <a:cubicBezTo>
                  <a:pt x="23442" y="12608"/>
                  <a:pt x="23667" y="12298"/>
                  <a:pt x="23912" y="12005"/>
                </a:cubicBezTo>
                <a:cubicBezTo>
                  <a:pt x="24019" y="11876"/>
                  <a:pt x="23771" y="12174"/>
                  <a:pt x="23664" y="12303"/>
                </a:cubicBezTo>
                <a:cubicBezTo>
                  <a:pt x="23581" y="12403"/>
                  <a:pt x="23235" y="12806"/>
                  <a:pt x="23168" y="12874"/>
                </a:cubicBezTo>
              </a:path>
              <a:path w="3896" h="1216">
                <a:moveTo>
                  <a:pt x="21109" y="12378"/>
                </a:moveTo>
                <a:cubicBezTo>
                  <a:pt x="21064" y="12446"/>
                  <a:pt x="20886" y="12627"/>
                  <a:pt x="20960" y="12626"/>
                </a:cubicBezTo>
                <a:cubicBezTo>
                  <a:pt x="21042" y="12625"/>
                  <a:pt x="21504" y="12240"/>
                  <a:pt x="21530" y="12154"/>
                </a:cubicBezTo>
                <a:cubicBezTo>
                  <a:pt x="21630" y="11827"/>
                  <a:pt x="21018" y="12597"/>
                  <a:pt x="20786" y="12849"/>
                </a:cubicBezTo>
                <a:cubicBezTo>
                  <a:pt x="20630" y="13019"/>
                  <a:pt x="20892" y="12760"/>
                  <a:pt x="21059" y="12601"/>
                </a:cubicBezTo>
                <a:cubicBezTo>
                  <a:pt x="21298" y="12384"/>
                  <a:pt x="21353" y="12332"/>
                  <a:pt x="21506" y="12204"/>
                </a:cubicBezTo>
                <a:cubicBezTo>
                  <a:pt x="21402" y="12282"/>
                  <a:pt x="20488" y="12922"/>
                  <a:pt x="20563" y="13047"/>
                </a:cubicBezTo>
                <a:cubicBezTo>
                  <a:pt x="20575" y="13067"/>
                  <a:pt x="21194" y="12417"/>
                  <a:pt x="21208" y="12402"/>
                </a:cubicBezTo>
                <a:cubicBezTo>
                  <a:pt x="21591" y="11967"/>
                  <a:pt x="20868" y="12680"/>
                  <a:pt x="20811" y="12750"/>
                </a:cubicBezTo>
                <a:cubicBezTo>
                  <a:pt x="20587" y="13027"/>
                  <a:pt x="21182" y="12530"/>
                  <a:pt x="21456" y="12303"/>
                </a:cubicBezTo>
                <a:cubicBezTo>
                  <a:pt x="21817" y="12004"/>
                  <a:pt x="20553" y="13152"/>
                  <a:pt x="20910" y="12849"/>
                </a:cubicBezTo>
                <a:cubicBezTo>
                  <a:pt x="21209" y="12596"/>
                  <a:pt x="21517" y="12312"/>
                  <a:pt x="21828" y="12055"/>
                </a:cubicBezTo>
                <a:cubicBezTo>
                  <a:pt x="21565" y="12348"/>
                  <a:pt x="20740" y="13015"/>
                  <a:pt x="21084" y="12824"/>
                </a:cubicBezTo>
                <a:cubicBezTo>
                  <a:pt x="21433" y="12630"/>
                  <a:pt x="21685" y="12293"/>
                  <a:pt x="22027" y="12080"/>
                </a:cubicBezTo>
                <a:cubicBezTo>
                  <a:pt x="22072" y="12052"/>
                  <a:pt x="21404" y="12624"/>
                  <a:pt x="21282" y="12824"/>
                </a:cubicBezTo>
                <a:cubicBezTo>
                  <a:pt x="21072" y="13168"/>
                  <a:pt x="22421" y="11777"/>
                  <a:pt x="22225" y="12129"/>
                </a:cubicBezTo>
                <a:cubicBezTo>
                  <a:pt x="22078" y="12392"/>
                  <a:pt x="21361" y="12950"/>
                  <a:pt x="21605" y="12774"/>
                </a:cubicBezTo>
                <a:cubicBezTo>
                  <a:pt x="21902" y="12559"/>
                  <a:pt x="22171" y="12278"/>
                  <a:pt x="22473" y="12055"/>
                </a:cubicBezTo>
                <a:cubicBezTo>
                  <a:pt x="22205" y="12302"/>
                  <a:pt x="21903" y="12534"/>
                  <a:pt x="21654" y="12799"/>
                </a:cubicBezTo>
                <a:cubicBezTo>
                  <a:pt x="21383" y="13087"/>
                  <a:pt x="22242" y="12254"/>
                  <a:pt x="22597" y="12080"/>
                </a:cubicBezTo>
                <a:cubicBezTo>
                  <a:pt x="22903" y="11931"/>
                  <a:pt x="22082" y="12527"/>
                  <a:pt x="21878" y="12799"/>
                </a:cubicBezTo>
                <a:cubicBezTo>
                  <a:pt x="21641" y="13115"/>
                  <a:pt x="22501" y="12314"/>
                  <a:pt x="22820" y="12080"/>
                </a:cubicBezTo>
                <a:cubicBezTo>
                  <a:pt x="22606" y="12380"/>
                  <a:pt x="22147" y="12581"/>
                  <a:pt x="21977" y="12898"/>
                </a:cubicBezTo>
                <a:cubicBezTo>
                  <a:pt x="21756" y="13312"/>
                  <a:pt x="23296" y="11892"/>
                  <a:pt x="22969" y="12229"/>
                </a:cubicBezTo>
                <a:cubicBezTo>
                  <a:pt x="22929" y="12270"/>
                  <a:pt x="21891" y="13220"/>
                  <a:pt x="22523" y="12725"/>
                </a:cubicBezTo>
                <a:cubicBezTo>
                  <a:pt x="22539" y="12712"/>
                  <a:pt x="23542" y="11873"/>
                  <a:pt x="23093" y="12328"/>
                </a:cubicBezTo>
                <a:cubicBezTo>
                  <a:pt x="23058" y="12363"/>
                  <a:pt x="22203" y="13167"/>
                  <a:pt x="22820" y="12650"/>
                </a:cubicBezTo>
                <a:cubicBezTo>
                  <a:pt x="23188" y="12328"/>
                  <a:pt x="23288" y="12233"/>
                  <a:pt x="23564" y="12080"/>
                </a:cubicBezTo>
                <a:cubicBezTo>
                  <a:pt x="23786" y="12178"/>
                  <a:pt x="23070" y="12622"/>
                  <a:pt x="22845" y="12824"/>
                </a:cubicBezTo>
                <a:cubicBezTo>
                  <a:pt x="22504" y="13130"/>
                  <a:pt x="23579" y="12409"/>
                  <a:pt x="23713" y="12328"/>
                </a:cubicBezTo>
                <a:cubicBezTo>
                  <a:pt x="24136" y="12071"/>
                  <a:pt x="23320" y="12753"/>
                  <a:pt x="23267" y="12799"/>
                </a:cubicBezTo>
                <a:cubicBezTo>
                  <a:pt x="23024" y="13009"/>
                  <a:pt x="23649" y="12163"/>
                  <a:pt x="23887" y="12378"/>
                </a:cubicBezTo>
                <a:cubicBezTo>
                  <a:pt x="24071" y="12544"/>
                  <a:pt x="23152" y="13025"/>
                  <a:pt x="23366" y="12898"/>
                </a:cubicBezTo>
                <a:cubicBezTo>
                  <a:pt x="23490" y="12825"/>
                  <a:pt x="23659" y="12687"/>
                  <a:pt x="23763" y="12576"/>
                </a:cubicBezTo>
                <a:cubicBezTo>
                  <a:pt x="23667" y="12640"/>
                  <a:pt x="23620" y="12668"/>
                  <a:pt x="23540" y="12700"/>
                </a:cubicBezTo>
              </a:path>
              <a:path w="3896" h="1216">
                <a:moveTo>
                  <a:pt x="23912" y="12328"/>
                </a:moveTo>
                <a:cubicBezTo>
                  <a:pt x="23896" y="12320"/>
                  <a:pt x="23682" y="12264"/>
                  <a:pt x="23564" y="12278"/>
                </a:cubicBezTo>
                <a:cubicBezTo>
                  <a:pt x="23546" y="12280"/>
                  <a:pt x="22956" y="12395"/>
                  <a:pt x="23168" y="12353"/>
                </a:cubicBezTo>
                <a:cubicBezTo>
                  <a:pt x="23369" y="12313"/>
                  <a:pt x="23566" y="12280"/>
                  <a:pt x="23763" y="12229"/>
                </a:cubicBezTo>
                <a:cubicBezTo>
                  <a:pt x="23565" y="12257"/>
                  <a:pt x="23465" y="12273"/>
                  <a:pt x="23267" y="12303"/>
                </a:cubicBezTo>
                <a:cubicBezTo>
                  <a:pt x="23180" y="12316"/>
                  <a:pt x="22531" y="12394"/>
                  <a:pt x="22547" y="12378"/>
                </a:cubicBezTo>
                <a:cubicBezTo>
                  <a:pt x="22720" y="12205"/>
                  <a:pt x="23233" y="12181"/>
                  <a:pt x="23465" y="12129"/>
                </a:cubicBezTo>
                <a:cubicBezTo>
                  <a:pt x="23144" y="12175"/>
                  <a:pt x="22824" y="12216"/>
                  <a:pt x="22498" y="12229"/>
                </a:cubicBezTo>
                <a:cubicBezTo>
                  <a:pt x="21867" y="12253"/>
                  <a:pt x="22440" y="12219"/>
                  <a:pt x="22647" y="12179"/>
                </a:cubicBezTo>
                <a:cubicBezTo>
                  <a:pt x="22730" y="12154"/>
                  <a:pt x="22812" y="12130"/>
                  <a:pt x="22895" y="12105"/>
                </a:cubicBezTo>
                <a:cubicBezTo>
                  <a:pt x="23188" y="11908"/>
                  <a:pt x="22098" y="12152"/>
                  <a:pt x="22076" y="12154"/>
                </a:cubicBezTo>
                <a:cubicBezTo>
                  <a:pt x="21886" y="12167"/>
                  <a:pt x="21745" y="12110"/>
                  <a:pt x="21555" y="12129"/>
                </a:cubicBezTo>
                <a:cubicBezTo>
                  <a:pt x="21510" y="12134"/>
                  <a:pt x="21638" y="12148"/>
                  <a:pt x="21605" y="12179"/>
                </a:cubicBezTo>
                <a:cubicBezTo>
                  <a:pt x="21514" y="12265"/>
                  <a:pt x="21348" y="12275"/>
                  <a:pt x="21233" y="12303"/>
                </a:cubicBezTo>
                <a:cubicBezTo>
                  <a:pt x="21188" y="12314"/>
                  <a:pt x="21149" y="12377"/>
                  <a:pt x="21109" y="12353"/>
                </a:cubicBezTo>
                <a:cubicBezTo>
                  <a:pt x="21077" y="12334"/>
                  <a:pt x="21284" y="12149"/>
                  <a:pt x="21307" y="12154"/>
                </a:cubicBezTo>
                <a:cubicBezTo>
                  <a:pt x="21322" y="12158"/>
                  <a:pt x="21216" y="12552"/>
                  <a:pt x="21208" y="12576"/>
                </a:cubicBezTo>
                <a:cubicBezTo>
                  <a:pt x="21173" y="12611"/>
                  <a:pt x="21169" y="12606"/>
                  <a:pt x="21208" y="12526"/>
                </a:cubicBezTo>
                <a:cubicBezTo>
                  <a:pt x="21267" y="12352"/>
                  <a:pt x="21329" y="12180"/>
                  <a:pt x="21382" y="12005"/>
                </a:cubicBezTo>
                <a:cubicBezTo>
                  <a:pt x="21273" y="12189"/>
                  <a:pt x="21145" y="12466"/>
                  <a:pt x="21034" y="12700"/>
                </a:cubicBezTo>
                <a:cubicBezTo>
                  <a:pt x="21020" y="12730"/>
                  <a:pt x="21433" y="12427"/>
                  <a:pt x="21605" y="12378"/>
                </a:cubicBezTo>
                <a:cubicBezTo>
                  <a:pt x="21925" y="12287"/>
                  <a:pt x="21992" y="12409"/>
                  <a:pt x="21779" y="12626"/>
                </a:cubicBezTo>
                <a:cubicBezTo>
                  <a:pt x="21577" y="12832"/>
                  <a:pt x="21972" y="12505"/>
                  <a:pt x="22200" y="12328"/>
                </a:cubicBezTo>
                <a:cubicBezTo>
                  <a:pt x="22266" y="12278"/>
                  <a:pt x="22333" y="12229"/>
                  <a:pt x="22399" y="12179"/>
                </a:cubicBezTo>
                <a:cubicBezTo>
                  <a:pt x="22375" y="12211"/>
                  <a:pt x="21941" y="12724"/>
                  <a:pt x="21952" y="12725"/>
                </a:cubicBezTo>
                <a:cubicBezTo>
                  <a:pt x="22123" y="12746"/>
                  <a:pt x="22568" y="12329"/>
                  <a:pt x="22721" y="12229"/>
                </a:cubicBezTo>
                <a:cubicBezTo>
                  <a:pt x="22582" y="12426"/>
                  <a:pt x="22137" y="12696"/>
                  <a:pt x="22448" y="12650"/>
                </a:cubicBezTo>
                <a:cubicBezTo>
                  <a:pt x="22567" y="12580"/>
                  <a:pt x="23098" y="12096"/>
                  <a:pt x="22870" y="12477"/>
                </a:cubicBezTo>
                <a:cubicBezTo>
                  <a:pt x="22588" y="12950"/>
                  <a:pt x="23121" y="12427"/>
                  <a:pt x="23316" y="12353"/>
                </a:cubicBezTo>
                <a:cubicBezTo>
                  <a:pt x="23484" y="12289"/>
                  <a:pt x="22951" y="12540"/>
                  <a:pt x="23093" y="12650"/>
                </a:cubicBezTo>
                <a:cubicBezTo>
                  <a:pt x="23139" y="12685"/>
                  <a:pt x="23625" y="12400"/>
                  <a:pt x="23490" y="12551"/>
                </a:cubicBezTo>
                <a:cubicBezTo>
                  <a:pt x="23406" y="12645"/>
                  <a:pt x="23122" y="12847"/>
                  <a:pt x="23440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98720" y="6456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051" y="17934"/>
                </a:moveTo>
                <a:lnTo>
                  <a:pt x="3051" y="17934"/>
                </a:lnTo>
                <a:lnTo>
                  <a:pt x="3051" y="1793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 the volume of the pr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1.) l=7in w=5in h=9i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=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w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= 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●5●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V= 35●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V=315i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429000" y="4724280"/>
          <a:ext cx="13968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4724280"/>
                    <a:ext cx="1396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6732720" y="2697120"/>
            <a:ext cx="349200" cy="258840"/>
          </a:xfrm>
          <a:custGeom>
            <a:avLst/>
            <a:gdLst/>
            <a:ahLst/>
            <a:rect l="l" t="t" r="r" b="b"/>
            <a:pathLst>
              <a:path w="968" h="720">
                <a:moveTo>
                  <a:pt x="18703" y="8210"/>
                </a:moveTo>
                <a:cubicBezTo>
                  <a:pt x="18797" y="8140"/>
                  <a:pt x="18825" y="8120"/>
                  <a:pt x="18876" y="8062"/>
                </a:cubicBezTo>
              </a:path>
              <a:path w="968" h="720">
                <a:moveTo>
                  <a:pt x="19025" y="7938"/>
                </a:moveTo>
                <a:cubicBezTo>
                  <a:pt x="19068" y="7938"/>
                  <a:pt x="19093" y="7932"/>
                  <a:pt x="19124" y="7913"/>
                </a:cubicBezTo>
              </a:path>
              <a:path w="968" h="720">
                <a:moveTo>
                  <a:pt x="19124" y="7913"/>
                </a:moveTo>
                <a:lnTo>
                  <a:pt x="19124" y="7913"/>
                </a:lnTo>
              </a:path>
              <a:path w="968" h="720">
                <a:moveTo>
                  <a:pt x="19273" y="7813"/>
                </a:moveTo>
                <a:cubicBezTo>
                  <a:pt x="19314" y="7733"/>
                  <a:pt x="19344" y="7690"/>
                  <a:pt x="19397" y="7640"/>
                </a:cubicBezTo>
              </a:path>
              <a:path w="968" h="720">
                <a:moveTo>
                  <a:pt x="19546" y="7565"/>
                </a:moveTo>
                <a:cubicBezTo>
                  <a:pt x="19606" y="7536"/>
                  <a:pt x="19632" y="7522"/>
                  <a:pt x="19670" y="7491"/>
                </a:cubicBezTo>
              </a:path>
              <a:path w="968" h="720">
                <a:moveTo>
                  <a:pt x="19670" y="7491"/>
                </a:moveTo>
                <a:lnTo>
                  <a:pt x="19670" y="749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97840" y="2670120"/>
            <a:ext cx="384120" cy="27000"/>
          </a:xfrm>
          <a:custGeom>
            <a:avLst/>
            <a:gdLst/>
            <a:ahLst/>
            <a:rect l="l" t="t" r="r" b="b"/>
            <a:pathLst>
              <a:path w="1067" h="75">
                <a:moveTo>
                  <a:pt x="19993" y="7466"/>
                </a:moveTo>
                <a:cubicBezTo>
                  <a:pt x="20028" y="7466"/>
                  <a:pt x="20045" y="7471"/>
                  <a:pt x="20067" y="7491"/>
                </a:cubicBezTo>
              </a:path>
              <a:path w="1067" h="75">
                <a:moveTo>
                  <a:pt x="20067" y="7491"/>
                </a:moveTo>
                <a:lnTo>
                  <a:pt x="20067" y="7491"/>
                </a:lnTo>
              </a:path>
              <a:path w="1067" h="75">
                <a:moveTo>
                  <a:pt x="20513" y="7441"/>
                </a:moveTo>
                <a:cubicBezTo>
                  <a:pt x="20541" y="7441"/>
                  <a:pt x="20552" y="7443"/>
                  <a:pt x="20563" y="7466"/>
                </a:cubicBezTo>
              </a:path>
              <a:path w="1067" h="75">
                <a:moveTo>
                  <a:pt x="20563" y="7466"/>
                </a:moveTo>
                <a:lnTo>
                  <a:pt x="20563" y="7466"/>
                </a:lnTo>
              </a:path>
              <a:path w="1067" h="75">
                <a:moveTo>
                  <a:pt x="20712" y="7441"/>
                </a:moveTo>
                <a:cubicBezTo>
                  <a:pt x="20801" y="7471"/>
                  <a:pt x="20842" y="7476"/>
                  <a:pt x="20910" y="7441"/>
                </a:cubicBezTo>
              </a:path>
              <a:path w="1067" h="75">
                <a:moveTo>
                  <a:pt x="21059" y="7417"/>
                </a:moveTo>
                <a:lnTo>
                  <a:pt x="21059" y="7417"/>
                </a:lnTo>
              </a:path>
              <a:path w="1067" h="75">
                <a:moveTo>
                  <a:pt x="21059" y="7417"/>
                </a:moveTo>
                <a:lnTo>
                  <a:pt x="21059" y="741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84160" y="6456240"/>
            <a:ext cx="9720" cy="9720"/>
          </a:xfrm>
          <a:custGeom>
            <a:avLst/>
            <a:gdLst/>
            <a:ahLst/>
            <a:rect l="l" t="t" r="r" b="b"/>
            <a:pathLst>
              <a:path w="25" h="26">
                <a:moveTo>
                  <a:pt x="2456" y="17959"/>
                </a:moveTo>
                <a:cubicBezTo>
                  <a:pt x="2464" y="17951"/>
                  <a:pt x="2472" y="17942"/>
                  <a:pt x="2480" y="179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97800" y="2438280"/>
            <a:ext cx="687240" cy="561960"/>
          </a:xfrm>
          <a:custGeom>
            <a:avLst/>
            <a:gdLst/>
            <a:ahLst/>
            <a:rect l="l" t="t" r="r" b="b"/>
            <a:pathLst>
              <a:path w="1910" h="1563">
                <a:moveTo>
                  <a:pt x="18703" y="7293"/>
                </a:moveTo>
                <a:cubicBezTo>
                  <a:pt x="18686" y="7482"/>
                  <a:pt x="18670" y="7674"/>
                  <a:pt x="18653" y="7863"/>
                </a:cubicBezTo>
                <a:cubicBezTo>
                  <a:pt x="18639" y="8022"/>
                  <a:pt x="18615" y="8177"/>
                  <a:pt x="18604" y="8334"/>
                </a:cubicBezTo>
                <a:cubicBezTo>
                  <a:pt x="18925" y="8251"/>
                  <a:pt x="19213" y="8215"/>
                  <a:pt x="19546" y="8186"/>
                </a:cubicBezTo>
                <a:cubicBezTo>
                  <a:pt x="19731" y="8170"/>
                  <a:pt x="19933" y="8164"/>
                  <a:pt x="20117" y="8136"/>
                </a:cubicBezTo>
                <a:cubicBezTo>
                  <a:pt x="20158" y="8130"/>
                  <a:pt x="20203" y="8108"/>
                  <a:pt x="20241" y="8111"/>
                </a:cubicBezTo>
                <a:cubicBezTo>
                  <a:pt x="20323" y="8117"/>
                  <a:pt x="20402" y="8136"/>
                  <a:pt x="20489" y="8136"/>
                </a:cubicBezTo>
                <a:cubicBezTo>
                  <a:pt x="20497" y="8136"/>
                  <a:pt x="20505" y="8136"/>
                  <a:pt x="20513" y="8136"/>
                </a:cubicBezTo>
                <a:cubicBezTo>
                  <a:pt x="20485" y="7970"/>
                  <a:pt x="20466" y="7810"/>
                  <a:pt x="20464" y="7640"/>
                </a:cubicBezTo>
                <a:cubicBezTo>
                  <a:pt x="20462" y="7491"/>
                  <a:pt x="20464" y="7342"/>
                  <a:pt x="20464" y="7193"/>
                </a:cubicBezTo>
                <a:cubicBezTo>
                  <a:pt x="20328" y="7179"/>
                  <a:pt x="20254" y="7207"/>
                  <a:pt x="20117" y="7218"/>
                </a:cubicBezTo>
                <a:cubicBezTo>
                  <a:pt x="19925" y="7234"/>
                  <a:pt x="19740" y="7265"/>
                  <a:pt x="19546" y="7268"/>
                </a:cubicBezTo>
                <a:cubicBezTo>
                  <a:pt x="19376" y="7271"/>
                  <a:pt x="19218" y="7303"/>
                  <a:pt x="19050" y="7317"/>
                </a:cubicBezTo>
                <a:cubicBezTo>
                  <a:pt x="18963" y="7324"/>
                  <a:pt x="18859" y="7347"/>
                  <a:pt x="18777" y="7342"/>
                </a:cubicBezTo>
                <a:cubicBezTo>
                  <a:pt x="18728" y="7339"/>
                  <a:pt x="18719" y="7329"/>
                  <a:pt x="18678" y="7317"/>
                </a:cubicBezTo>
                <a:cubicBezTo>
                  <a:pt x="18766" y="7254"/>
                  <a:pt x="19085" y="7036"/>
                  <a:pt x="19248" y="6945"/>
                </a:cubicBezTo>
                <a:cubicBezTo>
                  <a:pt x="19365" y="6880"/>
                  <a:pt x="19506" y="6823"/>
                  <a:pt x="19621" y="67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75680" y="2401920"/>
            <a:ext cx="214200" cy="179280"/>
          </a:xfrm>
          <a:custGeom>
            <a:avLst/>
            <a:gdLst/>
            <a:ahLst/>
            <a:rect l="l" t="t" r="r" b="b"/>
            <a:pathLst>
              <a:path w="596" h="498">
                <a:moveTo>
                  <a:pt x="20489" y="7169"/>
                </a:moveTo>
                <a:cubicBezTo>
                  <a:pt x="20684" y="7060"/>
                  <a:pt x="20829" y="6863"/>
                  <a:pt x="21010" y="6722"/>
                </a:cubicBezTo>
                <a:cubicBezTo>
                  <a:pt x="21064" y="6680"/>
                  <a:pt x="21048" y="6673"/>
                  <a:pt x="21084" y="66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35840" y="2411280"/>
            <a:ext cx="600120" cy="312840"/>
          </a:xfrm>
          <a:custGeom>
            <a:avLst/>
            <a:gdLst/>
            <a:ahLst/>
            <a:rect l="l" t="t" r="r" b="b"/>
            <a:pathLst>
              <a:path w="1663" h="869">
                <a:moveTo>
                  <a:pt x="19571" y="6821"/>
                </a:moveTo>
                <a:cubicBezTo>
                  <a:pt x="19730" y="6768"/>
                  <a:pt x="19850" y="6783"/>
                  <a:pt x="20017" y="6772"/>
                </a:cubicBezTo>
                <a:cubicBezTo>
                  <a:pt x="20388" y="6747"/>
                  <a:pt x="20763" y="6709"/>
                  <a:pt x="21134" y="6697"/>
                </a:cubicBezTo>
                <a:cubicBezTo>
                  <a:pt x="21159" y="6696"/>
                  <a:pt x="21183" y="6697"/>
                  <a:pt x="21208" y="6697"/>
                </a:cubicBezTo>
                <a:cubicBezTo>
                  <a:pt x="21208" y="6898"/>
                  <a:pt x="21205" y="7093"/>
                  <a:pt x="21183" y="7293"/>
                </a:cubicBezTo>
                <a:cubicBezTo>
                  <a:pt x="21162" y="7441"/>
                  <a:pt x="21153" y="7473"/>
                  <a:pt x="21158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92960" y="2670120"/>
            <a:ext cx="314280" cy="250920"/>
          </a:xfrm>
          <a:custGeom>
            <a:avLst/>
            <a:gdLst/>
            <a:ahLst/>
            <a:rect l="l" t="t" r="r" b="b"/>
            <a:pathLst>
              <a:path w="869" h="695">
                <a:moveTo>
                  <a:pt x="20538" y="8111"/>
                </a:moveTo>
                <a:cubicBezTo>
                  <a:pt x="20639" y="7935"/>
                  <a:pt x="20919" y="7707"/>
                  <a:pt x="21084" y="7590"/>
                </a:cubicBezTo>
                <a:cubicBezTo>
                  <a:pt x="21130" y="7557"/>
                  <a:pt x="21320" y="7446"/>
                  <a:pt x="21406" y="74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54920" y="2473200"/>
            <a:ext cx="17280" cy="241560"/>
          </a:xfrm>
          <a:custGeom>
            <a:avLst/>
            <a:gdLst/>
            <a:ahLst/>
            <a:rect l="l" t="t" r="r" b="b"/>
            <a:pathLst>
              <a:path w="50" h="671">
                <a:moveTo>
                  <a:pt x="19596" y="6896"/>
                </a:moveTo>
                <a:cubicBezTo>
                  <a:pt x="19596" y="6788"/>
                  <a:pt x="19616" y="7061"/>
                  <a:pt x="19621" y="7169"/>
                </a:cubicBezTo>
                <a:cubicBezTo>
                  <a:pt x="19623" y="7214"/>
                  <a:pt x="19645" y="7556"/>
                  <a:pt x="19645" y="75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99200" y="2687760"/>
            <a:ext cx="44640" cy="1440"/>
          </a:xfrm>
          <a:custGeom>
            <a:avLst/>
            <a:gdLst/>
            <a:ahLst/>
            <a:rect l="l" t="t" r="r" b="b"/>
            <a:pathLst>
              <a:path w="125" h="1">
                <a:moveTo>
                  <a:pt x="19720" y="7466"/>
                </a:moveTo>
                <a:cubicBezTo>
                  <a:pt x="19770" y="7466"/>
                  <a:pt x="19803" y="7466"/>
                  <a:pt x="19844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96120" y="2687760"/>
            <a:ext cx="5400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20265" y="7466"/>
                </a:moveTo>
                <a:cubicBezTo>
                  <a:pt x="20323" y="7466"/>
                  <a:pt x="20364" y="7466"/>
                  <a:pt x="20414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72200" y="3009960"/>
            <a:ext cx="142920" cy="125280"/>
          </a:xfrm>
          <a:custGeom>
            <a:avLst/>
            <a:gdLst/>
            <a:ahLst/>
            <a:rect l="l" t="t" r="r" b="b"/>
            <a:pathLst>
              <a:path w="398" h="348">
                <a:moveTo>
                  <a:pt x="19645" y="8458"/>
                </a:moveTo>
                <a:cubicBezTo>
                  <a:pt x="19711" y="8394"/>
                  <a:pt x="19884" y="8378"/>
                  <a:pt x="19993" y="8359"/>
                </a:cubicBezTo>
                <a:cubicBezTo>
                  <a:pt x="20017" y="8359"/>
                  <a:pt x="20026" y="8359"/>
                  <a:pt x="20042" y="8359"/>
                </a:cubicBezTo>
                <a:cubicBezTo>
                  <a:pt x="20017" y="8459"/>
                  <a:pt x="19965" y="8570"/>
                  <a:pt x="19943" y="8682"/>
                </a:cubicBezTo>
                <a:cubicBezTo>
                  <a:pt x="19943" y="8690"/>
                  <a:pt x="19943" y="8698"/>
                  <a:pt x="19943" y="87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62880" y="2820960"/>
            <a:ext cx="73080" cy="152280"/>
          </a:xfrm>
          <a:custGeom>
            <a:avLst/>
            <a:gdLst/>
            <a:ahLst/>
            <a:rect l="l" t="t" r="r" b="b"/>
            <a:pathLst>
              <a:path w="199" h="423">
                <a:moveTo>
                  <a:pt x="21208" y="7838"/>
                </a:moveTo>
                <a:cubicBezTo>
                  <a:pt x="21192" y="7843"/>
                  <a:pt x="21019" y="7894"/>
                  <a:pt x="21010" y="7913"/>
                </a:cubicBezTo>
                <a:cubicBezTo>
                  <a:pt x="21010" y="7971"/>
                  <a:pt x="21010" y="7996"/>
                  <a:pt x="21010" y="8037"/>
                </a:cubicBezTo>
                <a:cubicBezTo>
                  <a:pt x="21058" y="8037"/>
                  <a:pt x="21149" y="8022"/>
                  <a:pt x="21183" y="8062"/>
                </a:cubicBezTo>
                <a:cubicBezTo>
                  <a:pt x="21259" y="8151"/>
                  <a:pt x="21097" y="8211"/>
                  <a:pt x="21059" y="8235"/>
                </a:cubicBezTo>
                <a:cubicBezTo>
                  <a:pt x="21037" y="8257"/>
                  <a:pt x="21032" y="8266"/>
                  <a:pt x="21010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78800" y="2438280"/>
            <a:ext cx="108000" cy="150840"/>
          </a:xfrm>
          <a:custGeom>
            <a:avLst/>
            <a:gdLst/>
            <a:ahLst/>
            <a:rect l="l" t="t" r="r" b="b"/>
            <a:pathLst>
              <a:path w="299" h="422">
                <a:moveTo>
                  <a:pt x="21580" y="6871"/>
                </a:moveTo>
                <a:cubicBezTo>
                  <a:pt x="21616" y="6859"/>
                  <a:pt x="21596" y="6787"/>
                  <a:pt x="21555" y="6772"/>
                </a:cubicBezTo>
                <a:cubicBezTo>
                  <a:pt x="21426" y="6725"/>
                  <a:pt x="21400" y="6835"/>
                  <a:pt x="21357" y="6921"/>
                </a:cubicBezTo>
                <a:cubicBezTo>
                  <a:pt x="21349" y="6937"/>
                  <a:pt x="21340" y="6954"/>
                  <a:pt x="21332" y="6970"/>
                </a:cubicBezTo>
                <a:cubicBezTo>
                  <a:pt x="21409" y="7009"/>
                  <a:pt x="21478" y="6997"/>
                  <a:pt x="21506" y="6896"/>
                </a:cubicBezTo>
                <a:cubicBezTo>
                  <a:pt x="21506" y="6879"/>
                  <a:pt x="21506" y="6863"/>
                  <a:pt x="21506" y="6846"/>
                </a:cubicBezTo>
                <a:cubicBezTo>
                  <a:pt x="21599" y="6903"/>
                  <a:pt x="21610" y="7033"/>
                  <a:pt x="21630" y="7144"/>
                </a:cubicBezTo>
                <a:cubicBezTo>
                  <a:pt x="21630" y="7169"/>
                  <a:pt x="21630" y="7177"/>
                  <a:pt x="21630" y="71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12960" y="4653000"/>
            <a:ext cx="2009880" cy="669960"/>
          </a:xfrm>
          <a:custGeom>
            <a:avLst/>
            <a:gdLst/>
            <a:ahLst/>
            <a:rect l="l" t="t" r="r" b="b"/>
            <a:pathLst>
              <a:path w="5582" h="1862">
                <a:moveTo>
                  <a:pt x="5085" y="14734"/>
                </a:moveTo>
                <a:cubicBezTo>
                  <a:pt x="5300" y="14704"/>
                  <a:pt x="5532" y="14677"/>
                  <a:pt x="5755" y="14660"/>
                </a:cubicBezTo>
                <a:cubicBezTo>
                  <a:pt x="6269" y="14621"/>
                  <a:pt x="6781" y="14618"/>
                  <a:pt x="7293" y="14560"/>
                </a:cubicBezTo>
                <a:cubicBezTo>
                  <a:pt x="7747" y="14508"/>
                  <a:pt x="8209" y="14481"/>
                  <a:pt x="8657" y="14387"/>
                </a:cubicBezTo>
                <a:cubicBezTo>
                  <a:pt x="9058" y="14303"/>
                  <a:pt x="9436" y="14267"/>
                  <a:pt x="9847" y="14263"/>
                </a:cubicBezTo>
                <a:cubicBezTo>
                  <a:pt x="10058" y="14261"/>
                  <a:pt x="10262" y="14274"/>
                  <a:pt x="10468" y="14288"/>
                </a:cubicBezTo>
                <a:cubicBezTo>
                  <a:pt x="10492" y="14288"/>
                  <a:pt x="10501" y="14288"/>
                  <a:pt x="10517" y="14288"/>
                </a:cubicBezTo>
                <a:cubicBezTo>
                  <a:pt x="10517" y="14041"/>
                  <a:pt x="10544" y="13811"/>
                  <a:pt x="10567" y="13568"/>
                </a:cubicBezTo>
                <a:cubicBezTo>
                  <a:pt x="10586" y="13368"/>
                  <a:pt x="10611" y="13174"/>
                  <a:pt x="10616" y="12973"/>
                </a:cubicBezTo>
                <a:cubicBezTo>
                  <a:pt x="10616" y="12948"/>
                  <a:pt x="10616" y="12940"/>
                  <a:pt x="10616" y="12923"/>
                </a:cubicBezTo>
                <a:cubicBezTo>
                  <a:pt x="10468" y="12975"/>
                  <a:pt x="10355" y="13015"/>
                  <a:pt x="10195" y="13022"/>
                </a:cubicBezTo>
                <a:cubicBezTo>
                  <a:pt x="9613" y="13046"/>
                  <a:pt x="9010" y="12961"/>
                  <a:pt x="8434" y="13047"/>
                </a:cubicBezTo>
                <a:cubicBezTo>
                  <a:pt x="8185" y="13084"/>
                  <a:pt x="7940" y="13111"/>
                  <a:pt x="7689" y="13146"/>
                </a:cubicBezTo>
                <a:cubicBezTo>
                  <a:pt x="7413" y="13184"/>
                  <a:pt x="7148" y="13221"/>
                  <a:pt x="6871" y="13246"/>
                </a:cubicBezTo>
                <a:cubicBezTo>
                  <a:pt x="6623" y="13268"/>
                  <a:pt x="6374" y="13249"/>
                  <a:pt x="6127" y="13271"/>
                </a:cubicBezTo>
                <a:cubicBezTo>
                  <a:pt x="5965" y="13285"/>
                  <a:pt x="5809" y="13267"/>
                  <a:pt x="5655" y="13271"/>
                </a:cubicBezTo>
                <a:cubicBezTo>
                  <a:pt x="5525" y="13275"/>
                  <a:pt x="5389" y="13282"/>
                  <a:pt x="5259" y="13295"/>
                </a:cubicBezTo>
                <a:cubicBezTo>
                  <a:pt x="5184" y="13302"/>
                  <a:pt x="5113" y="13317"/>
                  <a:pt x="5035" y="13320"/>
                </a:cubicBezTo>
                <a:cubicBezTo>
                  <a:pt x="5066" y="13592"/>
                  <a:pt x="5100" y="13865"/>
                  <a:pt x="5110" y="14139"/>
                </a:cubicBezTo>
                <a:cubicBezTo>
                  <a:pt x="5118" y="14353"/>
                  <a:pt x="5110" y="14570"/>
                  <a:pt x="5110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Find the volume of the pris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) l= 5in  w=10in  h=5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) l=7yd   w=9yd  h=9y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27800" y="2581200"/>
            <a:ext cx="723600" cy="330120"/>
          </a:xfrm>
          <a:custGeom>
            <a:avLst/>
            <a:gdLst/>
            <a:ahLst/>
            <a:rect l="l" t="t" r="r" b="b"/>
            <a:pathLst>
              <a:path w="2010" h="918">
                <a:moveTo>
                  <a:pt x="16247" y="7268"/>
                </a:moveTo>
                <a:lnTo>
                  <a:pt x="16247" y="7268"/>
                </a:lnTo>
              </a:path>
              <a:path w="2010" h="918">
                <a:moveTo>
                  <a:pt x="17363" y="7169"/>
                </a:moveTo>
                <a:lnTo>
                  <a:pt x="17363" y="7169"/>
                </a:lnTo>
                <a:lnTo>
                  <a:pt x="17363" y="7169"/>
                </a:lnTo>
              </a:path>
              <a:path w="2010" h="918">
                <a:moveTo>
                  <a:pt x="17363" y="7169"/>
                </a:moveTo>
                <a:lnTo>
                  <a:pt x="17363" y="7169"/>
                </a:lnTo>
              </a:path>
              <a:path w="2010" h="918">
                <a:moveTo>
                  <a:pt x="15354" y="8086"/>
                </a:moveTo>
                <a:cubicBezTo>
                  <a:pt x="15444" y="8080"/>
                  <a:pt x="15517" y="8068"/>
                  <a:pt x="15602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5960" y="2411280"/>
            <a:ext cx="438120" cy="446400"/>
          </a:xfrm>
          <a:custGeom>
            <a:avLst/>
            <a:gdLst/>
            <a:ahLst/>
            <a:rect l="l" t="t" r="r" b="b"/>
            <a:pathLst>
              <a:path w="1217" h="1242">
                <a:moveTo>
                  <a:pt x="14759" y="6995"/>
                </a:moveTo>
                <a:cubicBezTo>
                  <a:pt x="14737" y="6988"/>
                  <a:pt x="14720" y="6953"/>
                  <a:pt x="14709" y="6921"/>
                </a:cubicBezTo>
                <a:cubicBezTo>
                  <a:pt x="14709" y="6913"/>
                  <a:pt x="14709" y="6904"/>
                  <a:pt x="14709" y="6896"/>
                </a:cubicBezTo>
                <a:cubicBezTo>
                  <a:pt x="14709" y="7049"/>
                  <a:pt x="14802" y="7226"/>
                  <a:pt x="14858" y="7367"/>
                </a:cubicBezTo>
                <a:cubicBezTo>
                  <a:pt x="14867" y="7389"/>
                  <a:pt x="14951" y="7676"/>
                  <a:pt x="14957" y="7640"/>
                </a:cubicBezTo>
                <a:cubicBezTo>
                  <a:pt x="14957" y="7632"/>
                  <a:pt x="14957" y="7623"/>
                  <a:pt x="14957" y="7615"/>
                </a:cubicBezTo>
                <a:cubicBezTo>
                  <a:pt x="14897" y="7342"/>
                  <a:pt x="14875" y="7072"/>
                  <a:pt x="14957" y="6796"/>
                </a:cubicBezTo>
                <a:cubicBezTo>
                  <a:pt x="15002" y="6644"/>
                  <a:pt x="15012" y="6751"/>
                  <a:pt x="15131" y="6796"/>
                </a:cubicBezTo>
              </a:path>
              <a:path w="1217" h="1242">
                <a:moveTo>
                  <a:pt x="15280" y="7144"/>
                </a:moveTo>
                <a:cubicBezTo>
                  <a:pt x="15369" y="7126"/>
                  <a:pt x="15435" y="7068"/>
                  <a:pt x="15528" y="7045"/>
                </a:cubicBezTo>
                <a:cubicBezTo>
                  <a:pt x="15574" y="7045"/>
                  <a:pt x="15571" y="7063"/>
                  <a:pt x="15503" y="7119"/>
                </a:cubicBezTo>
              </a:path>
              <a:path w="1217" h="1242">
                <a:moveTo>
                  <a:pt x="15255" y="7293"/>
                </a:moveTo>
                <a:cubicBezTo>
                  <a:pt x="15421" y="7293"/>
                  <a:pt x="15526" y="7284"/>
                  <a:pt x="15677" y="7218"/>
                </a:cubicBezTo>
              </a:path>
              <a:path w="1217" h="1242">
                <a:moveTo>
                  <a:pt x="15751" y="6697"/>
                </a:moveTo>
                <a:cubicBezTo>
                  <a:pt x="15830" y="6942"/>
                  <a:pt x="15888" y="7184"/>
                  <a:pt x="15900" y="7441"/>
                </a:cubicBezTo>
                <a:cubicBezTo>
                  <a:pt x="15903" y="7513"/>
                  <a:pt x="15875" y="7574"/>
                  <a:pt x="15925" y="7491"/>
                </a:cubicBezTo>
              </a:path>
              <a:path w="1217" h="1242">
                <a:moveTo>
                  <a:pt x="15379" y="7938"/>
                </a:moveTo>
                <a:cubicBezTo>
                  <a:pt x="15411" y="7874"/>
                  <a:pt x="15504" y="7868"/>
                  <a:pt x="15577" y="78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38920" y="2517840"/>
            <a:ext cx="222120" cy="144360"/>
          </a:xfrm>
          <a:custGeom>
            <a:avLst/>
            <a:gdLst/>
            <a:ahLst/>
            <a:rect l="l" t="t" r="r" b="b"/>
            <a:pathLst>
              <a:path w="621" h="398">
                <a:moveTo>
                  <a:pt x="16495" y="7094"/>
                </a:moveTo>
                <a:cubicBezTo>
                  <a:pt x="16495" y="7201"/>
                  <a:pt x="16470" y="7375"/>
                  <a:pt x="16619" y="7392"/>
                </a:cubicBezTo>
                <a:cubicBezTo>
                  <a:pt x="16749" y="7407"/>
                  <a:pt x="16745" y="7203"/>
                  <a:pt x="16768" y="7119"/>
                </a:cubicBezTo>
                <a:cubicBezTo>
                  <a:pt x="16768" y="7236"/>
                  <a:pt x="16791" y="7363"/>
                  <a:pt x="16942" y="7367"/>
                </a:cubicBezTo>
                <a:cubicBezTo>
                  <a:pt x="17140" y="7372"/>
                  <a:pt x="17134" y="7124"/>
                  <a:pt x="17041" y="7020"/>
                </a:cubicBezTo>
                <a:cubicBezTo>
                  <a:pt x="17000" y="7000"/>
                  <a:pt x="16984" y="6981"/>
                  <a:pt x="16991" y="70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48240" y="2428920"/>
            <a:ext cx="250920" cy="233280"/>
          </a:xfrm>
          <a:custGeom>
            <a:avLst/>
            <a:gdLst/>
            <a:ahLst/>
            <a:rect l="l" t="t" r="r" b="b"/>
            <a:pathLst>
              <a:path w="696" h="646">
                <a:moveTo>
                  <a:pt x="17636" y="6747"/>
                </a:moveTo>
                <a:cubicBezTo>
                  <a:pt x="17683" y="6933"/>
                  <a:pt x="17747" y="7125"/>
                  <a:pt x="17785" y="7317"/>
                </a:cubicBezTo>
                <a:cubicBezTo>
                  <a:pt x="17785" y="7334"/>
                  <a:pt x="17785" y="7350"/>
                  <a:pt x="17785" y="7367"/>
                </a:cubicBezTo>
                <a:cubicBezTo>
                  <a:pt x="17785" y="7257"/>
                  <a:pt x="17762" y="7108"/>
                  <a:pt x="17884" y="7045"/>
                </a:cubicBezTo>
                <a:cubicBezTo>
                  <a:pt x="18045" y="6962"/>
                  <a:pt x="18062" y="7273"/>
                  <a:pt x="18083" y="7342"/>
                </a:cubicBezTo>
                <a:cubicBezTo>
                  <a:pt x="18121" y="7467"/>
                  <a:pt x="18267" y="7355"/>
                  <a:pt x="18331" y="73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2795760"/>
            <a:ext cx="142560" cy="222120"/>
          </a:xfrm>
          <a:custGeom>
            <a:avLst/>
            <a:gdLst/>
            <a:ahLst/>
            <a:rect l="l" t="t" r="r" b="b"/>
            <a:pathLst>
              <a:path w="398" h="621">
                <a:moveTo>
                  <a:pt x="16098" y="7764"/>
                </a:moveTo>
                <a:cubicBezTo>
                  <a:pt x="16003" y="7793"/>
                  <a:pt x="15924" y="7813"/>
                  <a:pt x="15825" y="7813"/>
                </a:cubicBezTo>
                <a:cubicBezTo>
                  <a:pt x="15776" y="7813"/>
                  <a:pt x="15801" y="8039"/>
                  <a:pt x="15801" y="8086"/>
                </a:cubicBezTo>
                <a:cubicBezTo>
                  <a:pt x="15879" y="8086"/>
                  <a:pt x="15921" y="8027"/>
                  <a:pt x="15999" y="8012"/>
                </a:cubicBezTo>
                <a:cubicBezTo>
                  <a:pt x="16168" y="7981"/>
                  <a:pt x="16163" y="8201"/>
                  <a:pt x="16073" y="8285"/>
                </a:cubicBezTo>
                <a:cubicBezTo>
                  <a:pt x="16002" y="8351"/>
                  <a:pt x="15775" y="8444"/>
                  <a:pt x="15776" y="83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18160" y="2795760"/>
            <a:ext cx="152640" cy="177480"/>
          </a:xfrm>
          <a:custGeom>
            <a:avLst/>
            <a:gdLst/>
            <a:ahLst/>
            <a:rect l="l" t="t" r="r" b="b"/>
            <a:pathLst>
              <a:path w="423" h="497">
                <a:moveTo>
                  <a:pt x="18380" y="7764"/>
                </a:moveTo>
                <a:cubicBezTo>
                  <a:pt x="18317" y="7764"/>
                  <a:pt x="18152" y="7738"/>
                  <a:pt x="18132" y="7789"/>
                </a:cubicBezTo>
                <a:cubicBezTo>
                  <a:pt x="18102" y="7865"/>
                  <a:pt x="18107" y="7932"/>
                  <a:pt x="18107" y="8012"/>
                </a:cubicBezTo>
                <a:cubicBezTo>
                  <a:pt x="18263" y="7986"/>
                  <a:pt x="18333" y="7929"/>
                  <a:pt x="18479" y="8037"/>
                </a:cubicBezTo>
                <a:cubicBezTo>
                  <a:pt x="18496" y="8062"/>
                  <a:pt x="18512" y="8086"/>
                  <a:pt x="18529" y="8111"/>
                </a:cubicBezTo>
                <a:cubicBezTo>
                  <a:pt x="18419" y="8222"/>
                  <a:pt x="18282" y="8341"/>
                  <a:pt x="18107" y="8235"/>
                </a:cubicBezTo>
                <a:cubicBezTo>
                  <a:pt x="18124" y="8235"/>
                  <a:pt x="18140" y="8235"/>
                  <a:pt x="18157" y="82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7200" y="2830680"/>
            <a:ext cx="196920" cy="169560"/>
          </a:xfrm>
          <a:custGeom>
            <a:avLst/>
            <a:gdLst/>
            <a:ahLst/>
            <a:rect l="l" t="t" r="r" b="b"/>
            <a:pathLst>
              <a:path w="547" h="472">
                <a:moveTo>
                  <a:pt x="16768" y="8012"/>
                </a:moveTo>
                <a:cubicBezTo>
                  <a:pt x="16768" y="7995"/>
                  <a:pt x="16768" y="7979"/>
                  <a:pt x="16768" y="7962"/>
                </a:cubicBezTo>
                <a:cubicBezTo>
                  <a:pt x="16768" y="7907"/>
                  <a:pt x="16793" y="8260"/>
                  <a:pt x="16793" y="8260"/>
                </a:cubicBezTo>
                <a:cubicBezTo>
                  <a:pt x="16813" y="8300"/>
                  <a:pt x="16822" y="8307"/>
                  <a:pt x="16818" y="8334"/>
                </a:cubicBezTo>
              </a:path>
              <a:path w="547" h="472">
                <a:moveTo>
                  <a:pt x="17016" y="7863"/>
                </a:moveTo>
                <a:cubicBezTo>
                  <a:pt x="16980" y="8042"/>
                  <a:pt x="16973" y="8140"/>
                  <a:pt x="17066" y="8285"/>
                </a:cubicBezTo>
                <a:cubicBezTo>
                  <a:pt x="17208" y="8267"/>
                  <a:pt x="17397" y="8212"/>
                  <a:pt x="17289" y="8012"/>
                </a:cubicBezTo>
                <a:cubicBezTo>
                  <a:pt x="17234" y="7910"/>
                  <a:pt x="17138" y="7883"/>
                  <a:pt x="17041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45080" y="3098880"/>
            <a:ext cx="849240" cy="393480"/>
          </a:xfrm>
          <a:custGeom>
            <a:avLst/>
            <a:gdLst/>
            <a:ahLst/>
            <a:rect l="l" t="t" r="r" b="b"/>
            <a:pathLst>
              <a:path w="2357" h="1093">
                <a:moveTo>
                  <a:pt x="15404" y="8632"/>
                </a:moveTo>
                <a:cubicBezTo>
                  <a:pt x="15463" y="8632"/>
                  <a:pt x="15489" y="8629"/>
                  <a:pt x="15528" y="8607"/>
                </a:cubicBezTo>
              </a:path>
              <a:path w="2357" h="1093">
                <a:moveTo>
                  <a:pt x="16942" y="8930"/>
                </a:moveTo>
                <a:cubicBezTo>
                  <a:pt x="16950" y="8930"/>
                  <a:pt x="16958" y="8930"/>
                  <a:pt x="16966" y="8930"/>
                </a:cubicBezTo>
              </a:path>
              <a:path w="2357" h="1093">
                <a:moveTo>
                  <a:pt x="15528" y="9699"/>
                </a:moveTo>
                <a:cubicBezTo>
                  <a:pt x="15589" y="9672"/>
                  <a:pt x="15635" y="9656"/>
                  <a:pt x="15701" y="9649"/>
                </a:cubicBezTo>
              </a:path>
              <a:path w="2357" h="1093">
                <a:moveTo>
                  <a:pt x="17760" y="9252"/>
                </a:moveTo>
                <a:cubicBezTo>
                  <a:pt x="17752" y="9244"/>
                  <a:pt x="17743" y="9235"/>
                  <a:pt x="17735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49880" y="3009960"/>
            <a:ext cx="1590480" cy="598320"/>
          </a:xfrm>
          <a:custGeom>
            <a:avLst/>
            <a:gdLst/>
            <a:ahLst/>
            <a:rect l="l" t="t" r="r" b="b"/>
            <a:pathLst>
              <a:path w="4416" h="1663">
                <a:moveTo>
                  <a:pt x="15354" y="8830"/>
                </a:moveTo>
                <a:cubicBezTo>
                  <a:pt x="15425" y="8801"/>
                  <a:pt x="15499" y="8752"/>
                  <a:pt x="15528" y="8781"/>
                </a:cubicBezTo>
              </a:path>
              <a:path w="4416" h="1663">
                <a:moveTo>
                  <a:pt x="16049" y="8434"/>
                </a:moveTo>
                <a:cubicBezTo>
                  <a:pt x="16042" y="8487"/>
                  <a:pt x="16031" y="8529"/>
                  <a:pt x="16024" y="8582"/>
                </a:cubicBezTo>
                <a:cubicBezTo>
                  <a:pt x="16239" y="8565"/>
                  <a:pt x="16452" y="8517"/>
                  <a:pt x="16669" y="8533"/>
                </a:cubicBezTo>
                <a:cubicBezTo>
                  <a:pt x="16708" y="8536"/>
                  <a:pt x="16834" y="8598"/>
                  <a:pt x="16842" y="8533"/>
                </a:cubicBezTo>
                <a:cubicBezTo>
                  <a:pt x="16850" y="8469"/>
                  <a:pt x="16815" y="8415"/>
                  <a:pt x="16793" y="8359"/>
                </a:cubicBezTo>
              </a:path>
              <a:path w="4416" h="1663">
                <a:moveTo>
                  <a:pt x="16272" y="8781"/>
                </a:moveTo>
                <a:cubicBezTo>
                  <a:pt x="16243" y="8776"/>
                  <a:pt x="16127" y="8727"/>
                  <a:pt x="16098" y="8756"/>
                </a:cubicBezTo>
                <a:cubicBezTo>
                  <a:pt x="16034" y="8820"/>
                  <a:pt x="16049" y="8874"/>
                  <a:pt x="16049" y="8954"/>
                </a:cubicBezTo>
                <a:cubicBezTo>
                  <a:pt x="16163" y="8916"/>
                  <a:pt x="16211" y="8892"/>
                  <a:pt x="16321" y="8954"/>
                </a:cubicBezTo>
                <a:cubicBezTo>
                  <a:pt x="16278" y="9047"/>
                  <a:pt x="16119" y="9272"/>
                  <a:pt x="15974" y="9128"/>
                </a:cubicBezTo>
                <a:cubicBezTo>
                  <a:pt x="15974" y="9103"/>
                  <a:pt x="15974" y="9079"/>
                  <a:pt x="15974" y="9054"/>
                </a:cubicBezTo>
              </a:path>
              <a:path w="4416" h="1663">
                <a:moveTo>
                  <a:pt x="16495" y="8706"/>
                </a:moveTo>
                <a:cubicBezTo>
                  <a:pt x="16428" y="8851"/>
                  <a:pt x="16384" y="8969"/>
                  <a:pt x="16446" y="9103"/>
                </a:cubicBezTo>
                <a:cubicBezTo>
                  <a:pt x="16581" y="9069"/>
                  <a:pt x="16777" y="8955"/>
                  <a:pt x="16619" y="8781"/>
                </a:cubicBezTo>
                <a:cubicBezTo>
                  <a:pt x="16562" y="8762"/>
                  <a:pt x="16555" y="8753"/>
                  <a:pt x="16520" y="8756"/>
                </a:cubicBezTo>
              </a:path>
              <a:path w="4416" h="1663">
                <a:moveTo>
                  <a:pt x="17413" y="8607"/>
                </a:moveTo>
                <a:cubicBezTo>
                  <a:pt x="17364" y="8613"/>
                  <a:pt x="17274" y="8617"/>
                  <a:pt x="17264" y="8657"/>
                </a:cubicBezTo>
                <a:cubicBezTo>
                  <a:pt x="17252" y="8706"/>
                  <a:pt x="17245" y="8755"/>
                  <a:pt x="17239" y="8806"/>
                </a:cubicBezTo>
                <a:cubicBezTo>
                  <a:pt x="17338" y="8806"/>
                  <a:pt x="17418" y="8770"/>
                  <a:pt x="17512" y="8806"/>
                </a:cubicBezTo>
                <a:cubicBezTo>
                  <a:pt x="17653" y="8860"/>
                  <a:pt x="17405" y="9020"/>
                  <a:pt x="17363" y="9029"/>
                </a:cubicBezTo>
                <a:cubicBezTo>
                  <a:pt x="17302" y="9029"/>
                  <a:pt x="17286" y="9038"/>
                  <a:pt x="17264" y="9004"/>
                </a:cubicBezTo>
              </a:path>
              <a:path w="4416" h="1663">
                <a:moveTo>
                  <a:pt x="15553" y="9525"/>
                </a:moveTo>
                <a:cubicBezTo>
                  <a:pt x="15628" y="9512"/>
                  <a:pt x="15641" y="9476"/>
                  <a:pt x="15677" y="9500"/>
                </a:cubicBezTo>
              </a:path>
              <a:path w="4416" h="1663">
                <a:moveTo>
                  <a:pt x="16346" y="9327"/>
                </a:moveTo>
                <a:cubicBezTo>
                  <a:pt x="16369" y="9304"/>
                  <a:pt x="16377" y="9300"/>
                  <a:pt x="16371" y="9277"/>
                </a:cubicBezTo>
                <a:cubicBezTo>
                  <a:pt x="16533" y="9331"/>
                  <a:pt x="16547" y="9489"/>
                  <a:pt x="16421" y="9624"/>
                </a:cubicBezTo>
                <a:cubicBezTo>
                  <a:pt x="16339" y="9711"/>
                  <a:pt x="16295" y="9718"/>
                  <a:pt x="16222" y="9674"/>
                </a:cubicBezTo>
                <a:cubicBezTo>
                  <a:pt x="16271" y="9585"/>
                  <a:pt x="16372" y="9462"/>
                  <a:pt x="16470" y="9599"/>
                </a:cubicBezTo>
                <a:cubicBezTo>
                  <a:pt x="16499" y="9640"/>
                  <a:pt x="16495" y="9785"/>
                  <a:pt x="16495" y="9624"/>
                </a:cubicBezTo>
              </a:path>
              <a:path w="4416" h="1663">
                <a:moveTo>
                  <a:pt x="16793" y="9252"/>
                </a:moveTo>
                <a:cubicBezTo>
                  <a:pt x="16716" y="9314"/>
                  <a:pt x="16712" y="9285"/>
                  <a:pt x="16669" y="9376"/>
                </a:cubicBezTo>
                <a:cubicBezTo>
                  <a:pt x="16661" y="9393"/>
                  <a:pt x="16652" y="9409"/>
                  <a:pt x="16644" y="9426"/>
                </a:cubicBezTo>
                <a:cubicBezTo>
                  <a:pt x="16735" y="9395"/>
                  <a:pt x="16836" y="9322"/>
                  <a:pt x="16867" y="9475"/>
                </a:cubicBezTo>
                <a:cubicBezTo>
                  <a:pt x="16895" y="9613"/>
                  <a:pt x="16768" y="9758"/>
                  <a:pt x="16619" y="9699"/>
                </a:cubicBezTo>
                <a:cubicBezTo>
                  <a:pt x="16603" y="9682"/>
                  <a:pt x="16586" y="9666"/>
                  <a:pt x="16570" y="9649"/>
                </a:cubicBezTo>
              </a:path>
              <a:path w="4416" h="1663">
                <a:moveTo>
                  <a:pt x="17165" y="9227"/>
                </a:moveTo>
                <a:cubicBezTo>
                  <a:pt x="17076" y="9352"/>
                  <a:pt x="16990" y="9534"/>
                  <a:pt x="17066" y="9699"/>
                </a:cubicBezTo>
                <a:cubicBezTo>
                  <a:pt x="17082" y="9707"/>
                  <a:pt x="17099" y="9715"/>
                  <a:pt x="17115" y="9723"/>
                </a:cubicBezTo>
                <a:cubicBezTo>
                  <a:pt x="17289" y="9608"/>
                  <a:pt x="17442" y="9418"/>
                  <a:pt x="17214" y="9227"/>
                </a:cubicBezTo>
                <a:cubicBezTo>
                  <a:pt x="17130" y="9207"/>
                  <a:pt x="17111" y="9192"/>
                  <a:pt x="17066" y="9227"/>
                </a:cubicBezTo>
              </a:path>
              <a:path w="4416" h="1663">
                <a:moveTo>
                  <a:pt x="14759" y="9277"/>
                </a:moveTo>
                <a:cubicBezTo>
                  <a:pt x="14759" y="9123"/>
                  <a:pt x="14880" y="9504"/>
                  <a:pt x="14932" y="9649"/>
                </a:cubicBezTo>
                <a:cubicBezTo>
                  <a:pt x="14969" y="9776"/>
                  <a:pt x="14950" y="9800"/>
                  <a:pt x="15007" y="9847"/>
                </a:cubicBezTo>
                <a:cubicBezTo>
                  <a:pt x="15101" y="9707"/>
                  <a:pt x="15143" y="9510"/>
                  <a:pt x="15205" y="9351"/>
                </a:cubicBezTo>
                <a:cubicBezTo>
                  <a:pt x="15222" y="9310"/>
                  <a:pt x="15238" y="9268"/>
                  <a:pt x="15255" y="9227"/>
                </a:cubicBezTo>
              </a:path>
              <a:path w="4416" h="1663">
                <a:moveTo>
                  <a:pt x="17711" y="9451"/>
                </a:moveTo>
                <a:cubicBezTo>
                  <a:pt x="17711" y="9390"/>
                  <a:pt x="17711" y="9665"/>
                  <a:pt x="17711" y="9674"/>
                </a:cubicBezTo>
                <a:cubicBezTo>
                  <a:pt x="17711" y="9817"/>
                  <a:pt x="17862" y="9720"/>
                  <a:pt x="17909" y="9649"/>
                </a:cubicBezTo>
                <a:cubicBezTo>
                  <a:pt x="17926" y="9608"/>
                  <a:pt x="17942" y="9566"/>
                  <a:pt x="17959" y="9525"/>
                </a:cubicBezTo>
                <a:cubicBezTo>
                  <a:pt x="18023" y="9414"/>
                  <a:pt x="18006" y="9618"/>
                  <a:pt x="18008" y="9674"/>
                </a:cubicBezTo>
                <a:cubicBezTo>
                  <a:pt x="18008" y="9690"/>
                  <a:pt x="18008" y="9707"/>
                  <a:pt x="18008" y="9723"/>
                </a:cubicBezTo>
                <a:cubicBezTo>
                  <a:pt x="18008" y="9610"/>
                  <a:pt x="18032" y="9511"/>
                  <a:pt x="18058" y="9401"/>
                </a:cubicBezTo>
                <a:cubicBezTo>
                  <a:pt x="18203" y="9401"/>
                  <a:pt x="18213" y="9483"/>
                  <a:pt x="18231" y="9624"/>
                </a:cubicBezTo>
                <a:cubicBezTo>
                  <a:pt x="18231" y="9657"/>
                  <a:pt x="18231" y="9690"/>
                  <a:pt x="18231" y="9723"/>
                </a:cubicBezTo>
              </a:path>
              <a:path w="4416" h="1663">
                <a:moveTo>
                  <a:pt x="18405" y="9054"/>
                </a:moveTo>
                <a:cubicBezTo>
                  <a:pt x="18438" y="9037"/>
                  <a:pt x="18581" y="8987"/>
                  <a:pt x="18604" y="9054"/>
                </a:cubicBezTo>
                <a:cubicBezTo>
                  <a:pt x="18621" y="9104"/>
                  <a:pt x="18476" y="9153"/>
                  <a:pt x="18529" y="9153"/>
                </a:cubicBezTo>
                <a:cubicBezTo>
                  <a:pt x="18574" y="9153"/>
                  <a:pt x="18661" y="9150"/>
                  <a:pt x="18678" y="9203"/>
                </a:cubicBezTo>
                <a:cubicBezTo>
                  <a:pt x="18709" y="9301"/>
                  <a:pt x="18618" y="9352"/>
                  <a:pt x="18554" y="9327"/>
                </a:cubicBezTo>
              </a:path>
              <a:path w="4416" h="1663">
                <a:moveTo>
                  <a:pt x="15032" y="10021"/>
                </a:moveTo>
                <a:cubicBezTo>
                  <a:pt x="15207" y="10014"/>
                  <a:pt x="15378" y="9981"/>
                  <a:pt x="15553" y="9971"/>
                </a:cubicBezTo>
                <a:cubicBezTo>
                  <a:pt x="16542" y="9915"/>
                  <a:pt x="17544" y="10024"/>
                  <a:pt x="18529" y="9947"/>
                </a:cubicBezTo>
                <a:cubicBezTo>
                  <a:pt x="18611" y="9941"/>
                  <a:pt x="18868" y="9983"/>
                  <a:pt x="18926" y="9922"/>
                </a:cubicBezTo>
                <a:cubicBezTo>
                  <a:pt x="18965" y="9881"/>
                  <a:pt x="18952" y="9851"/>
                  <a:pt x="18976" y="9748"/>
                </a:cubicBezTo>
                <a:cubicBezTo>
                  <a:pt x="19019" y="9563"/>
                  <a:pt x="19000" y="9367"/>
                  <a:pt x="19000" y="9178"/>
                </a:cubicBezTo>
                <a:cubicBezTo>
                  <a:pt x="19000" y="9081"/>
                  <a:pt x="18993" y="8988"/>
                  <a:pt x="18976" y="8905"/>
                </a:cubicBezTo>
                <a:cubicBezTo>
                  <a:pt x="18961" y="8835"/>
                  <a:pt x="18955" y="8824"/>
                  <a:pt x="18876" y="8806"/>
                </a:cubicBezTo>
                <a:cubicBezTo>
                  <a:pt x="18800" y="8788"/>
                  <a:pt x="18676" y="8812"/>
                  <a:pt x="18604" y="8830"/>
                </a:cubicBezTo>
                <a:cubicBezTo>
                  <a:pt x="18503" y="8855"/>
                  <a:pt x="18402" y="8895"/>
                  <a:pt x="18306" y="8930"/>
                </a:cubicBezTo>
                <a:cubicBezTo>
                  <a:pt x="18231" y="8957"/>
                  <a:pt x="18158" y="9006"/>
                  <a:pt x="18083" y="9029"/>
                </a:cubicBezTo>
                <a:cubicBezTo>
                  <a:pt x="17987" y="9059"/>
                  <a:pt x="17885" y="9043"/>
                  <a:pt x="17785" y="9054"/>
                </a:cubicBezTo>
                <a:cubicBezTo>
                  <a:pt x="17677" y="9066"/>
                  <a:pt x="17575" y="9079"/>
                  <a:pt x="17462" y="9079"/>
                </a:cubicBezTo>
                <a:cubicBezTo>
                  <a:pt x="17388" y="9079"/>
                  <a:pt x="17334" y="9058"/>
                  <a:pt x="17264" y="9054"/>
                </a:cubicBezTo>
                <a:cubicBezTo>
                  <a:pt x="16958" y="9036"/>
                  <a:pt x="16648" y="9059"/>
                  <a:pt x="16346" y="9079"/>
                </a:cubicBezTo>
                <a:cubicBezTo>
                  <a:pt x="16226" y="9087"/>
                  <a:pt x="16119" y="9057"/>
                  <a:pt x="15999" y="9054"/>
                </a:cubicBezTo>
                <a:cubicBezTo>
                  <a:pt x="15824" y="9050"/>
                  <a:pt x="15654" y="9029"/>
                  <a:pt x="15478" y="9029"/>
                </a:cubicBezTo>
                <a:cubicBezTo>
                  <a:pt x="15277" y="9029"/>
                  <a:pt x="15081" y="9021"/>
                  <a:pt x="14883" y="9004"/>
                </a:cubicBezTo>
                <a:cubicBezTo>
                  <a:pt x="14811" y="8998"/>
                  <a:pt x="14668" y="8983"/>
                  <a:pt x="14635" y="8979"/>
                </a:cubicBezTo>
                <a:cubicBezTo>
                  <a:pt x="14613" y="9037"/>
                  <a:pt x="14578" y="9079"/>
                  <a:pt x="14585" y="9178"/>
                </a:cubicBezTo>
                <a:cubicBezTo>
                  <a:pt x="14598" y="9377"/>
                  <a:pt x="14610" y="9571"/>
                  <a:pt x="14610" y="9773"/>
                </a:cubicBezTo>
                <a:cubicBezTo>
                  <a:pt x="14610" y="9906"/>
                  <a:pt x="14613" y="9856"/>
                  <a:pt x="14635" y="9922"/>
                </a:cubicBezTo>
                <a:cubicBezTo>
                  <a:pt x="14650" y="9968"/>
                  <a:pt x="14686" y="10016"/>
                  <a:pt x="14734" y="10021"/>
                </a:cubicBezTo>
                <a:cubicBezTo>
                  <a:pt x="14836" y="10031"/>
                  <a:pt x="14951" y="9999"/>
                  <a:pt x="15056" y="9996"/>
                </a:cubicBezTo>
                <a:cubicBezTo>
                  <a:pt x="15064" y="9996"/>
                  <a:pt x="15073" y="9996"/>
                  <a:pt x="15081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29200" y="2946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470" y="8186"/>
                </a:moveTo>
                <a:lnTo>
                  <a:pt x="16470" y="8186"/>
                </a:lnTo>
                <a:lnTo>
                  <a:pt x="16470" y="818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13320" y="2938320"/>
            <a:ext cx="1687680" cy="2428920"/>
          </a:xfrm>
          <a:custGeom>
            <a:avLst/>
            <a:gdLst/>
            <a:ahLst/>
            <a:rect l="l" t="t" r="r" b="b"/>
            <a:pathLst>
              <a:path w="4689" h="6748">
                <a:moveTo>
                  <a:pt x="17636" y="8161"/>
                </a:moveTo>
                <a:lnTo>
                  <a:pt x="17636" y="8161"/>
                </a:lnTo>
                <a:lnTo>
                  <a:pt x="17636" y="8161"/>
                </a:lnTo>
              </a:path>
              <a:path w="4689" h="6748">
                <a:moveTo>
                  <a:pt x="17537" y="14808"/>
                </a:moveTo>
                <a:cubicBezTo>
                  <a:pt x="17537" y="14865"/>
                  <a:pt x="17542" y="14886"/>
                  <a:pt x="17587" y="14908"/>
                </a:cubicBezTo>
              </a:path>
              <a:path w="4689" h="6748">
                <a:moveTo>
                  <a:pt x="17587" y="14908"/>
                </a:moveTo>
                <a:lnTo>
                  <a:pt x="17587" y="14908"/>
                </a:lnTo>
              </a:path>
              <a:path w="4689" h="6748">
                <a:moveTo>
                  <a:pt x="22051" y="14015"/>
                </a:moveTo>
                <a:lnTo>
                  <a:pt x="22051" y="14015"/>
                </a:lnTo>
              </a:path>
              <a:path w="4689" h="6748">
                <a:moveTo>
                  <a:pt x="22225" y="13990"/>
                </a:moveTo>
                <a:cubicBezTo>
                  <a:pt x="22087" y="14123"/>
                  <a:pt x="21756" y="14340"/>
                  <a:pt x="21903" y="144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68960" y="4286160"/>
            <a:ext cx="3276720" cy="2305080"/>
          </a:xfrm>
          <a:custGeom>
            <a:avLst/>
            <a:gdLst/>
            <a:ahLst/>
            <a:rect l="l" t="t" r="r" b="b"/>
            <a:pathLst>
              <a:path w="9104" h="6401">
                <a:moveTo>
                  <a:pt x="16173" y="14734"/>
                </a:moveTo>
                <a:cubicBezTo>
                  <a:pt x="16165" y="14734"/>
                  <a:pt x="16156" y="14734"/>
                  <a:pt x="16148" y="14734"/>
                </a:cubicBezTo>
                <a:cubicBezTo>
                  <a:pt x="16195" y="14734"/>
                  <a:pt x="16227" y="14714"/>
                  <a:pt x="16272" y="14709"/>
                </a:cubicBezTo>
                <a:cubicBezTo>
                  <a:pt x="16297" y="14709"/>
                  <a:pt x="16305" y="14709"/>
                  <a:pt x="16297" y="14734"/>
                </a:cubicBezTo>
              </a:path>
              <a:path w="9104" h="6401">
                <a:moveTo>
                  <a:pt x="16197" y="14908"/>
                </a:moveTo>
                <a:cubicBezTo>
                  <a:pt x="16272" y="14908"/>
                  <a:pt x="16346" y="14908"/>
                  <a:pt x="16421" y="14908"/>
                </a:cubicBezTo>
              </a:path>
              <a:path w="9104" h="6401">
                <a:moveTo>
                  <a:pt x="17041" y="14387"/>
                </a:moveTo>
                <a:cubicBezTo>
                  <a:pt x="16986" y="14405"/>
                  <a:pt x="16998" y="14523"/>
                  <a:pt x="16966" y="14585"/>
                </a:cubicBezTo>
                <a:cubicBezTo>
                  <a:pt x="16966" y="14577"/>
                  <a:pt x="16966" y="14568"/>
                  <a:pt x="16966" y="14560"/>
                </a:cubicBezTo>
                <a:cubicBezTo>
                  <a:pt x="16989" y="14424"/>
                  <a:pt x="17018" y="14398"/>
                  <a:pt x="17165" y="14387"/>
                </a:cubicBezTo>
                <a:cubicBezTo>
                  <a:pt x="17274" y="14387"/>
                  <a:pt x="17301" y="14392"/>
                  <a:pt x="17363" y="14362"/>
                </a:cubicBezTo>
                <a:cubicBezTo>
                  <a:pt x="17322" y="14525"/>
                  <a:pt x="17218" y="14717"/>
                  <a:pt x="17165" y="14883"/>
                </a:cubicBezTo>
                <a:cubicBezTo>
                  <a:pt x="17111" y="15053"/>
                  <a:pt x="17028" y="15176"/>
                  <a:pt x="17165" y="15056"/>
                </a:cubicBezTo>
              </a:path>
              <a:path w="9104" h="6401">
                <a:moveTo>
                  <a:pt x="18182" y="14635"/>
                </a:moveTo>
                <a:cubicBezTo>
                  <a:pt x="18249" y="14591"/>
                  <a:pt x="18217" y="14448"/>
                  <a:pt x="18207" y="14362"/>
                </a:cubicBezTo>
                <a:cubicBezTo>
                  <a:pt x="17980" y="14311"/>
                  <a:pt x="17764" y="14424"/>
                  <a:pt x="17735" y="14709"/>
                </a:cubicBezTo>
                <a:cubicBezTo>
                  <a:pt x="17752" y="14742"/>
                  <a:pt x="17768" y="14775"/>
                  <a:pt x="17785" y="14808"/>
                </a:cubicBezTo>
                <a:cubicBezTo>
                  <a:pt x="18034" y="14808"/>
                  <a:pt x="18077" y="14756"/>
                  <a:pt x="18207" y="14536"/>
                </a:cubicBezTo>
                <a:cubicBezTo>
                  <a:pt x="18169" y="14720"/>
                  <a:pt x="18124" y="14919"/>
                  <a:pt x="18083" y="15106"/>
                </a:cubicBezTo>
                <a:cubicBezTo>
                  <a:pt x="18064" y="15180"/>
                  <a:pt x="18030" y="15213"/>
                  <a:pt x="18083" y="15205"/>
                </a:cubicBezTo>
              </a:path>
              <a:path w="9104" h="6401">
                <a:moveTo>
                  <a:pt x="17090" y="15701"/>
                </a:moveTo>
                <a:cubicBezTo>
                  <a:pt x="17045" y="15906"/>
                  <a:pt x="16875" y="16068"/>
                  <a:pt x="16842" y="16272"/>
                </a:cubicBezTo>
                <a:cubicBezTo>
                  <a:pt x="16850" y="16313"/>
                  <a:pt x="16859" y="16355"/>
                  <a:pt x="16867" y="16396"/>
                </a:cubicBezTo>
                <a:cubicBezTo>
                  <a:pt x="17107" y="16428"/>
                  <a:pt x="17236" y="16330"/>
                  <a:pt x="17338" y="16098"/>
                </a:cubicBezTo>
                <a:cubicBezTo>
                  <a:pt x="17338" y="16073"/>
                  <a:pt x="17338" y="16049"/>
                  <a:pt x="17338" y="16024"/>
                </a:cubicBezTo>
                <a:cubicBezTo>
                  <a:pt x="17283" y="16054"/>
                  <a:pt x="17002" y="16226"/>
                  <a:pt x="17140" y="16321"/>
                </a:cubicBezTo>
                <a:cubicBezTo>
                  <a:pt x="17165" y="16321"/>
                  <a:pt x="17189" y="16321"/>
                  <a:pt x="17214" y="16321"/>
                </a:cubicBezTo>
              </a:path>
              <a:path w="9104" h="6401">
                <a:moveTo>
                  <a:pt x="17562" y="15751"/>
                </a:moveTo>
                <a:cubicBezTo>
                  <a:pt x="17623" y="15751"/>
                  <a:pt x="17853" y="15698"/>
                  <a:pt x="17835" y="15825"/>
                </a:cubicBezTo>
                <a:cubicBezTo>
                  <a:pt x="17782" y="15931"/>
                  <a:pt x="17758" y="15967"/>
                  <a:pt x="17661" y="15974"/>
                </a:cubicBezTo>
                <a:cubicBezTo>
                  <a:pt x="17636" y="15982"/>
                  <a:pt x="17612" y="15991"/>
                  <a:pt x="17587" y="15999"/>
                </a:cubicBezTo>
                <a:cubicBezTo>
                  <a:pt x="17676" y="15947"/>
                  <a:pt x="17859" y="15928"/>
                  <a:pt x="17859" y="16098"/>
                </a:cubicBezTo>
                <a:cubicBezTo>
                  <a:pt x="17859" y="16291"/>
                  <a:pt x="17529" y="16419"/>
                  <a:pt x="17413" y="16247"/>
                </a:cubicBezTo>
                <a:cubicBezTo>
                  <a:pt x="17405" y="16189"/>
                  <a:pt x="17396" y="16131"/>
                  <a:pt x="17388" y="16073"/>
                </a:cubicBezTo>
              </a:path>
              <a:path w="9104" h="6401">
                <a:moveTo>
                  <a:pt x="18628" y="14808"/>
                </a:moveTo>
                <a:cubicBezTo>
                  <a:pt x="18628" y="14833"/>
                  <a:pt x="18628" y="14858"/>
                  <a:pt x="18628" y="14883"/>
                </a:cubicBezTo>
                <a:cubicBezTo>
                  <a:pt x="18628" y="14855"/>
                  <a:pt x="18626" y="14844"/>
                  <a:pt x="18604" y="14833"/>
                </a:cubicBezTo>
              </a:path>
              <a:path w="9104" h="6401">
                <a:moveTo>
                  <a:pt x="19348" y="14610"/>
                </a:moveTo>
                <a:cubicBezTo>
                  <a:pt x="19348" y="14555"/>
                  <a:pt x="19373" y="14451"/>
                  <a:pt x="19323" y="14412"/>
                </a:cubicBezTo>
                <a:cubicBezTo>
                  <a:pt x="19163" y="14289"/>
                  <a:pt x="19006" y="14407"/>
                  <a:pt x="18976" y="14585"/>
                </a:cubicBezTo>
                <a:cubicBezTo>
                  <a:pt x="18933" y="14840"/>
                  <a:pt x="19232" y="14823"/>
                  <a:pt x="19348" y="14684"/>
                </a:cubicBezTo>
                <a:cubicBezTo>
                  <a:pt x="19387" y="14584"/>
                  <a:pt x="19392" y="14566"/>
                  <a:pt x="19422" y="14511"/>
                </a:cubicBezTo>
                <a:cubicBezTo>
                  <a:pt x="19395" y="14686"/>
                  <a:pt x="19331" y="14856"/>
                  <a:pt x="19298" y="15032"/>
                </a:cubicBezTo>
                <a:cubicBezTo>
                  <a:pt x="19298" y="15056"/>
                  <a:pt x="19298" y="15065"/>
                  <a:pt x="19298" y="15081"/>
                </a:cubicBezTo>
              </a:path>
              <a:path w="9104" h="6401">
                <a:moveTo>
                  <a:pt x="18256" y="16049"/>
                </a:moveTo>
                <a:cubicBezTo>
                  <a:pt x="18256" y="16112"/>
                  <a:pt x="18237" y="16105"/>
                  <a:pt x="18306" y="16049"/>
                </a:cubicBezTo>
              </a:path>
              <a:path w="9104" h="6401">
                <a:moveTo>
                  <a:pt x="19000" y="15925"/>
                </a:moveTo>
                <a:cubicBezTo>
                  <a:pt x="19035" y="15867"/>
                  <a:pt x="19025" y="15867"/>
                  <a:pt x="19000" y="15801"/>
                </a:cubicBezTo>
                <a:cubicBezTo>
                  <a:pt x="18967" y="15813"/>
                  <a:pt x="18628" y="16026"/>
                  <a:pt x="18827" y="16073"/>
                </a:cubicBezTo>
                <a:cubicBezTo>
                  <a:pt x="18983" y="16110"/>
                  <a:pt x="19059" y="15946"/>
                  <a:pt x="19124" y="15850"/>
                </a:cubicBezTo>
                <a:cubicBezTo>
                  <a:pt x="19105" y="16010"/>
                  <a:pt x="19049" y="16162"/>
                  <a:pt x="19025" y="16321"/>
                </a:cubicBezTo>
                <a:cubicBezTo>
                  <a:pt x="19025" y="16363"/>
                  <a:pt x="19025" y="16371"/>
                  <a:pt x="19025" y="16396"/>
                </a:cubicBezTo>
              </a:path>
              <a:path w="9104" h="6401">
                <a:moveTo>
                  <a:pt x="16073" y="15999"/>
                </a:moveTo>
                <a:cubicBezTo>
                  <a:pt x="16121" y="15935"/>
                  <a:pt x="16229" y="15931"/>
                  <a:pt x="16321" y="15925"/>
                </a:cubicBezTo>
                <a:cubicBezTo>
                  <a:pt x="16329" y="15925"/>
                  <a:pt x="16338" y="15925"/>
                  <a:pt x="16346" y="15925"/>
                </a:cubicBezTo>
              </a:path>
              <a:path w="9104" h="6401">
                <a:moveTo>
                  <a:pt x="16173" y="16173"/>
                </a:moveTo>
                <a:cubicBezTo>
                  <a:pt x="16259" y="16160"/>
                  <a:pt x="16333" y="16148"/>
                  <a:pt x="16421" y="16148"/>
                </a:cubicBezTo>
                <a:cubicBezTo>
                  <a:pt x="16437" y="16148"/>
                  <a:pt x="16454" y="16148"/>
                  <a:pt x="16470" y="16148"/>
                </a:cubicBezTo>
              </a:path>
              <a:path w="9104" h="6401">
                <a:moveTo>
                  <a:pt x="22597" y="12750"/>
                </a:moveTo>
                <a:cubicBezTo>
                  <a:pt x="22531" y="12948"/>
                  <a:pt x="22276" y="13377"/>
                  <a:pt x="22423" y="13568"/>
                </a:cubicBezTo>
                <a:cubicBezTo>
                  <a:pt x="22597" y="13795"/>
                  <a:pt x="22779" y="13334"/>
                  <a:pt x="22796" y="13246"/>
                </a:cubicBezTo>
                <a:cubicBezTo>
                  <a:pt x="22598" y="13416"/>
                  <a:pt x="22459" y="13506"/>
                  <a:pt x="22671" y="13643"/>
                </a:cubicBezTo>
              </a:path>
              <a:path w="9104" h="6401">
                <a:moveTo>
                  <a:pt x="23242" y="12898"/>
                </a:moveTo>
                <a:cubicBezTo>
                  <a:pt x="23388" y="12840"/>
                  <a:pt x="23508" y="12813"/>
                  <a:pt x="23664" y="12799"/>
                </a:cubicBezTo>
                <a:cubicBezTo>
                  <a:pt x="23604" y="12930"/>
                  <a:pt x="23481" y="13008"/>
                  <a:pt x="23341" y="13097"/>
                </a:cubicBezTo>
                <a:cubicBezTo>
                  <a:pt x="23471" y="13114"/>
                  <a:pt x="23819" y="13229"/>
                  <a:pt x="23564" y="13419"/>
                </a:cubicBezTo>
                <a:cubicBezTo>
                  <a:pt x="23349" y="13579"/>
                  <a:pt x="23218" y="13522"/>
                  <a:pt x="23118" y="13395"/>
                </a:cubicBezTo>
              </a:path>
              <a:path w="9104" h="6401">
                <a:moveTo>
                  <a:pt x="23341" y="14064"/>
                </a:moveTo>
                <a:cubicBezTo>
                  <a:pt x="23447" y="14000"/>
                  <a:pt x="23436" y="14017"/>
                  <a:pt x="23416" y="13891"/>
                </a:cubicBezTo>
                <a:cubicBezTo>
                  <a:pt x="23255" y="13858"/>
                  <a:pt x="23150" y="13902"/>
                  <a:pt x="23068" y="14064"/>
                </a:cubicBezTo>
                <a:cubicBezTo>
                  <a:pt x="23227" y="14064"/>
                  <a:pt x="23294" y="14048"/>
                  <a:pt x="23440" y="13965"/>
                </a:cubicBezTo>
                <a:cubicBezTo>
                  <a:pt x="23440" y="14108"/>
                  <a:pt x="23394" y="14303"/>
                  <a:pt x="23341" y="14436"/>
                </a:cubicBezTo>
                <a:cubicBezTo>
                  <a:pt x="23282" y="14585"/>
                  <a:pt x="23291" y="14610"/>
                  <a:pt x="23217" y="14560"/>
                </a:cubicBezTo>
              </a:path>
              <a:path w="9104" h="6401">
                <a:moveTo>
                  <a:pt x="21406" y="14908"/>
                </a:moveTo>
                <a:cubicBezTo>
                  <a:pt x="21965" y="14852"/>
                  <a:pt x="22533" y="14928"/>
                  <a:pt x="23093" y="14982"/>
                </a:cubicBezTo>
                <a:cubicBezTo>
                  <a:pt x="23306" y="15003"/>
                  <a:pt x="23524" y="15031"/>
                  <a:pt x="23738" y="15056"/>
                </a:cubicBezTo>
              </a:path>
              <a:path w="9104" h="6401">
                <a:moveTo>
                  <a:pt x="22027" y="13940"/>
                </a:moveTo>
                <a:cubicBezTo>
                  <a:pt x="22133" y="14026"/>
                  <a:pt x="22154" y="14219"/>
                  <a:pt x="22175" y="14362"/>
                </a:cubicBezTo>
                <a:cubicBezTo>
                  <a:pt x="22175" y="14414"/>
                  <a:pt x="22176" y="14429"/>
                  <a:pt x="22200" y="14362"/>
                </a:cubicBezTo>
              </a:path>
              <a:path w="9104" h="6401">
                <a:moveTo>
                  <a:pt x="23068" y="15379"/>
                </a:moveTo>
                <a:cubicBezTo>
                  <a:pt x="23212" y="15379"/>
                  <a:pt x="23348" y="15394"/>
                  <a:pt x="23490" y="15404"/>
                </a:cubicBezTo>
                <a:cubicBezTo>
                  <a:pt x="23453" y="15515"/>
                  <a:pt x="23363" y="15653"/>
                  <a:pt x="23292" y="15751"/>
                </a:cubicBezTo>
                <a:cubicBezTo>
                  <a:pt x="23255" y="15802"/>
                  <a:pt x="23230" y="15798"/>
                  <a:pt x="23217" y="15850"/>
                </a:cubicBezTo>
              </a:path>
              <a:path w="9104" h="6401">
                <a:moveTo>
                  <a:pt x="22374" y="11931"/>
                </a:moveTo>
                <a:cubicBezTo>
                  <a:pt x="22464" y="11915"/>
                  <a:pt x="22528" y="11906"/>
                  <a:pt x="22622" y="11906"/>
                </a:cubicBezTo>
                <a:cubicBezTo>
                  <a:pt x="22537" y="12030"/>
                  <a:pt x="22408" y="12103"/>
                  <a:pt x="22324" y="12204"/>
                </a:cubicBezTo>
                <a:cubicBezTo>
                  <a:pt x="22449" y="12198"/>
                  <a:pt x="22572" y="12187"/>
                  <a:pt x="22696" y="12179"/>
                </a:cubicBezTo>
              </a:path>
              <a:path w="9104" h="6401">
                <a:moveTo>
                  <a:pt x="21903" y="15404"/>
                </a:moveTo>
                <a:cubicBezTo>
                  <a:pt x="21903" y="15356"/>
                  <a:pt x="21913" y="15346"/>
                  <a:pt x="21878" y="15329"/>
                </a:cubicBezTo>
                <a:cubicBezTo>
                  <a:pt x="21790" y="15287"/>
                  <a:pt x="21698" y="15249"/>
                  <a:pt x="21605" y="15230"/>
                </a:cubicBezTo>
                <a:cubicBezTo>
                  <a:pt x="21547" y="15338"/>
                  <a:pt x="21488" y="15445"/>
                  <a:pt x="21431" y="15553"/>
                </a:cubicBezTo>
                <a:cubicBezTo>
                  <a:pt x="21536" y="15553"/>
                  <a:pt x="21838" y="15506"/>
                  <a:pt x="21803" y="15701"/>
                </a:cubicBezTo>
                <a:cubicBezTo>
                  <a:pt x="21748" y="16008"/>
                  <a:pt x="21417" y="15879"/>
                  <a:pt x="21282" y="15776"/>
                </a:cubicBezTo>
              </a:path>
              <a:path w="9104" h="6401">
                <a:moveTo>
                  <a:pt x="22250" y="15304"/>
                </a:moveTo>
                <a:cubicBezTo>
                  <a:pt x="22285" y="15512"/>
                  <a:pt x="22149" y="15645"/>
                  <a:pt x="22101" y="15850"/>
                </a:cubicBezTo>
                <a:cubicBezTo>
                  <a:pt x="22101" y="15875"/>
                  <a:pt x="22101" y="15900"/>
                  <a:pt x="22101" y="15925"/>
                </a:cubicBezTo>
                <a:cubicBezTo>
                  <a:pt x="22331" y="15948"/>
                  <a:pt x="22431" y="15928"/>
                  <a:pt x="22572" y="15751"/>
                </a:cubicBezTo>
                <a:cubicBezTo>
                  <a:pt x="22410" y="15789"/>
                  <a:pt x="22362" y="15844"/>
                  <a:pt x="22250" y="15974"/>
                </a:cubicBezTo>
              </a:path>
              <a:path w="9104" h="6401">
                <a:moveTo>
                  <a:pt x="16123" y="18058"/>
                </a:moveTo>
                <a:cubicBezTo>
                  <a:pt x="16387" y="18082"/>
                  <a:pt x="16651" y="18091"/>
                  <a:pt x="16917" y="18107"/>
                </a:cubicBezTo>
                <a:cubicBezTo>
                  <a:pt x="17571" y="18146"/>
                  <a:pt x="18222" y="18198"/>
                  <a:pt x="18876" y="18231"/>
                </a:cubicBezTo>
                <a:cubicBezTo>
                  <a:pt x="19396" y="18257"/>
                  <a:pt x="19919" y="18294"/>
                  <a:pt x="20439" y="18306"/>
                </a:cubicBezTo>
                <a:cubicBezTo>
                  <a:pt x="20464" y="18306"/>
                  <a:pt x="20472" y="18306"/>
                  <a:pt x="20489" y="18306"/>
                </a:cubicBezTo>
                <a:cubicBezTo>
                  <a:pt x="20520" y="18098"/>
                  <a:pt x="20549" y="17889"/>
                  <a:pt x="20613" y="17686"/>
                </a:cubicBezTo>
                <a:cubicBezTo>
                  <a:pt x="20696" y="17422"/>
                  <a:pt x="20864" y="17185"/>
                  <a:pt x="20935" y="16917"/>
                </a:cubicBezTo>
                <a:cubicBezTo>
                  <a:pt x="20955" y="16843"/>
                  <a:pt x="20946" y="16788"/>
                  <a:pt x="20960" y="16718"/>
                </a:cubicBezTo>
                <a:cubicBezTo>
                  <a:pt x="20802" y="16711"/>
                  <a:pt x="20645" y="16712"/>
                  <a:pt x="20489" y="16694"/>
                </a:cubicBezTo>
                <a:cubicBezTo>
                  <a:pt x="20304" y="16673"/>
                  <a:pt x="20129" y="16623"/>
                  <a:pt x="19943" y="16619"/>
                </a:cubicBezTo>
                <a:cubicBezTo>
                  <a:pt x="19714" y="16614"/>
                  <a:pt x="19477" y="16609"/>
                  <a:pt x="19248" y="16594"/>
                </a:cubicBezTo>
                <a:cubicBezTo>
                  <a:pt x="18727" y="16560"/>
                  <a:pt x="18211" y="16461"/>
                  <a:pt x="17686" y="16470"/>
                </a:cubicBezTo>
                <a:cubicBezTo>
                  <a:pt x="17264" y="16477"/>
                  <a:pt x="16844" y="16516"/>
                  <a:pt x="16421" y="16520"/>
                </a:cubicBezTo>
                <a:cubicBezTo>
                  <a:pt x="15867" y="16525"/>
                  <a:pt x="15313" y="16520"/>
                  <a:pt x="14759" y="16520"/>
                </a:cubicBezTo>
                <a:cubicBezTo>
                  <a:pt x="14759" y="16854"/>
                  <a:pt x="14768" y="17217"/>
                  <a:pt x="14684" y="17537"/>
                </a:cubicBezTo>
                <a:cubicBezTo>
                  <a:pt x="14671" y="17586"/>
                  <a:pt x="14621" y="17621"/>
                  <a:pt x="14635" y="17686"/>
                </a:cubicBezTo>
                <a:cubicBezTo>
                  <a:pt x="14642" y="17717"/>
                  <a:pt x="14712" y="17841"/>
                  <a:pt x="14734" y="17859"/>
                </a:cubicBezTo>
                <a:cubicBezTo>
                  <a:pt x="14807" y="17919"/>
                  <a:pt x="14799" y="17902"/>
                  <a:pt x="14908" y="17934"/>
                </a:cubicBezTo>
                <a:cubicBezTo>
                  <a:pt x="15225" y="18027"/>
                  <a:pt x="15550" y="18075"/>
                  <a:pt x="15875" y="18132"/>
                </a:cubicBezTo>
                <a:cubicBezTo>
                  <a:pt x="16021" y="18158"/>
                  <a:pt x="16500" y="18336"/>
                  <a:pt x="16644" y="18256"/>
                </a:cubicBezTo>
                <a:cubicBezTo>
                  <a:pt x="16753" y="18196"/>
                  <a:pt x="16629" y="18470"/>
                  <a:pt x="16669" y="18107"/>
                </a:cubicBezTo>
              </a:path>
              <a:path w="9104" h="6401">
                <a:moveTo>
                  <a:pt x="15180" y="16991"/>
                </a:moveTo>
                <a:cubicBezTo>
                  <a:pt x="15180" y="17172"/>
                  <a:pt x="15227" y="17298"/>
                  <a:pt x="15304" y="17462"/>
                </a:cubicBezTo>
                <a:cubicBezTo>
                  <a:pt x="15321" y="17495"/>
                  <a:pt x="15337" y="17529"/>
                  <a:pt x="15354" y="17562"/>
                </a:cubicBezTo>
                <a:cubicBezTo>
                  <a:pt x="15459" y="17562"/>
                  <a:pt x="15562" y="17255"/>
                  <a:pt x="15602" y="17190"/>
                </a:cubicBezTo>
                <a:cubicBezTo>
                  <a:pt x="15687" y="17052"/>
                  <a:pt x="15859" y="16851"/>
                  <a:pt x="15776" y="169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23000" y="6296040"/>
            <a:ext cx="133200" cy="27000"/>
          </a:xfrm>
          <a:custGeom>
            <a:avLst/>
            <a:gdLst/>
            <a:ahLst/>
            <a:rect l="l" t="t" r="r" b="b"/>
            <a:pathLst>
              <a:path w="373" h="76">
                <a:moveTo>
                  <a:pt x="16173" y="17562"/>
                </a:moveTo>
                <a:cubicBezTo>
                  <a:pt x="16304" y="17523"/>
                  <a:pt x="16410" y="17496"/>
                  <a:pt x="16545" y="174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76920" y="6107040"/>
            <a:ext cx="1420920" cy="492120"/>
          </a:xfrm>
          <a:custGeom>
            <a:avLst/>
            <a:gdLst/>
            <a:ahLst/>
            <a:rect l="l" t="t" r="r" b="b"/>
            <a:pathLst>
              <a:path w="3945" h="1366">
                <a:moveTo>
                  <a:pt x="16049" y="17289"/>
                </a:moveTo>
                <a:cubicBezTo>
                  <a:pt x="16149" y="17255"/>
                  <a:pt x="16364" y="17172"/>
                  <a:pt x="16470" y="17214"/>
                </a:cubicBezTo>
                <a:cubicBezTo>
                  <a:pt x="16462" y="17222"/>
                  <a:pt x="16454" y="17231"/>
                  <a:pt x="16446" y="17239"/>
                </a:cubicBezTo>
              </a:path>
              <a:path w="3945" h="1366">
                <a:moveTo>
                  <a:pt x="17264" y="17115"/>
                </a:moveTo>
                <a:cubicBezTo>
                  <a:pt x="17223" y="17121"/>
                  <a:pt x="17043" y="17121"/>
                  <a:pt x="17016" y="17140"/>
                </a:cubicBezTo>
                <a:cubicBezTo>
                  <a:pt x="16949" y="17188"/>
                  <a:pt x="16867" y="17335"/>
                  <a:pt x="16818" y="17413"/>
                </a:cubicBezTo>
                <a:cubicBezTo>
                  <a:pt x="16940" y="17413"/>
                  <a:pt x="17051" y="17413"/>
                  <a:pt x="17140" y="17512"/>
                </a:cubicBezTo>
                <a:cubicBezTo>
                  <a:pt x="17343" y="17737"/>
                  <a:pt x="16918" y="17804"/>
                  <a:pt x="16793" y="17785"/>
                </a:cubicBezTo>
                <a:cubicBezTo>
                  <a:pt x="16652" y="17728"/>
                  <a:pt x="16618" y="17695"/>
                  <a:pt x="16743" y="17562"/>
                </a:cubicBezTo>
              </a:path>
              <a:path w="3945" h="1366">
                <a:moveTo>
                  <a:pt x="17537" y="17214"/>
                </a:moveTo>
                <a:cubicBezTo>
                  <a:pt x="17451" y="17392"/>
                  <a:pt x="17355" y="17540"/>
                  <a:pt x="17388" y="17735"/>
                </a:cubicBezTo>
                <a:cubicBezTo>
                  <a:pt x="17614" y="17747"/>
                  <a:pt x="17666" y="17695"/>
                  <a:pt x="17810" y="17512"/>
                </a:cubicBezTo>
                <a:cubicBezTo>
                  <a:pt x="17763" y="17512"/>
                  <a:pt x="17290" y="17683"/>
                  <a:pt x="17462" y="17785"/>
                </a:cubicBezTo>
                <a:cubicBezTo>
                  <a:pt x="17504" y="17777"/>
                  <a:pt x="17545" y="17768"/>
                  <a:pt x="17587" y="17760"/>
                </a:cubicBezTo>
              </a:path>
              <a:path w="3945" h="1366">
                <a:moveTo>
                  <a:pt x="17934" y="17140"/>
                </a:moveTo>
                <a:cubicBezTo>
                  <a:pt x="18081" y="17114"/>
                  <a:pt x="18230" y="17100"/>
                  <a:pt x="18380" y="17090"/>
                </a:cubicBezTo>
                <a:cubicBezTo>
                  <a:pt x="18362" y="17288"/>
                  <a:pt x="18289" y="17456"/>
                  <a:pt x="18207" y="17636"/>
                </a:cubicBezTo>
                <a:cubicBezTo>
                  <a:pt x="18199" y="17653"/>
                  <a:pt x="18190" y="17669"/>
                  <a:pt x="18182" y="17686"/>
                </a:cubicBezTo>
              </a:path>
              <a:path w="3945" h="1366">
                <a:moveTo>
                  <a:pt x="18529" y="17512"/>
                </a:moveTo>
                <a:cubicBezTo>
                  <a:pt x="18517" y="17583"/>
                  <a:pt x="18477" y="17744"/>
                  <a:pt x="18579" y="17785"/>
                </a:cubicBezTo>
                <a:cubicBezTo>
                  <a:pt x="18746" y="17853"/>
                  <a:pt x="18859" y="17649"/>
                  <a:pt x="18926" y="17537"/>
                </a:cubicBezTo>
                <a:cubicBezTo>
                  <a:pt x="18909" y="17739"/>
                  <a:pt x="18920" y="18008"/>
                  <a:pt x="18802" y="18182"/>
                </a:cubicBezTo>
                <a:cubicBezTo>
                  <a:pt x="18591" y="18493"/>
                  <a:pt x="18360" y="18331"/>
                  <a:pt x="18306" y="18107"/>
                </a:cubicBezTo>
              </a:path>
              <a:path w="3945" h="1366">
                <a:moveTo>
                  <a:pt x="19372" y="17512"/>
                </a:moveTo>
                <a:cubicBezTo>
                  <a:pt x="19310" y="17355"/>
                  <a:pt x="19189" y="17418"/>
                  <a:pt x="19100" y="17537"/>
                </a:cubicBezTo>
                <a:cubicBezTo>
                  <a:pt x="19056" y="17647"/>
                  <a:pt x="19031" y="17676"/>
                  <a:pt x="19100" y="17735"/>
                </a:cubicBezTo>
                <a:cubicBezTo>
                  <a:pt x="19402" y="17690"/>
                  <a:pt x="19397" y="17578"/>
                  <a:pt x="19397" y="17289"/>
                </a:cubicBezTo>
                <a:cubicBezTo>
                  <a:pt x="19320" y="16956"/>
                  <a:pt x="19372" y="17542"/>
                  <a:pt x="19372" y="17611"/>
                </a:cubicBezTo>
                <a:cubicBezTo>
                  <a:pt x="19372" y="17686"/>
                  <a:pt x="19347" y="17719"/>
                  <a:pt x="19397" y="17711"/>
                </a:cubicBezTo>
              </a:path>
              <a:path w="3945" h="1366">
                <a:moveTo>
                  <a:pt x="19769" y="16966"/>
                </a:moveTo>
                <a:cubicBezTo>
                  <a:pt x="19900" y="16975"/>
                  <a:pt x="20080" y="16952"/>
                  <a:pt x="19918" y="17115"/>
                </a:cubicBezTo>
                <a:cubicBezTo>
                  <a:pt x="19885" y="17140"/>
                  <a:pt x="19852" y="17165"/>
                  <a:pt x="19819" y="17190"/>
                </a:cubicBezTo>
                <a:cubicBezTo>
                  <a:pt x="19811" y="17198"/>
                  <a:pt x="19802" y="17206"/>
                  <a:pt x="19794" y="17214"/>
                </a:cubicBezTo>
                <a:cubicBezTo>
                  <a:pt x="19870" y="17214"/>
                  <a:pt x="20085" y="17241"/>
                  <a:pt x="19993" y="17388"/>
                </a:cubicBezTo>
                <a:cubicBezTo>
                  <a:pt x="19879" y="17570"/>
                  <a:pt x="19702" y="17493"/>
                  <a:pt x="19546" y="174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42080" y="4732200"/>
            <a:ext cx="27000" cy="9720"/>
          </a:xfrm>
          <a:custGeom>
            <a:avLst/>
            <a:gdLst/>
            <a:ahLst/>
            <a:rect l="l" t="t" r="r" b="b"/>
            <a:pathLst>
              <a:path w="75" h="26">
                <a:moveTo>
                  <a:pt x="18728" y="13171"/>
                </a:moveTo>
                <a:cubicBezTo>
                  <a:pt x="18763" y="13171"/>
                  <a:pt x="18780" y="13166"/>
                  <a:pt x="18802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9720" y="4527720"/>
            <a:ext cx="571320" cy="411120"/>
          </a:xfrm>
          <a:custGeom>
            <a:avLst/>
            <a:gdLst/>
            <a:ahLst/>
            <a:rect l="l" t="t" r="r" b="b"/>
            <a:pathLst>
              <a:path w="1588" h="1142">
                <a:moveTo>
                  <a:pt x="15528" y="12849"/>
                </a:moveTo>
                <a:cubicBezTo>
                  <a:pt x="15528" y="12653"/>
                  <a:pt x="15603" y="12981"/>
                  <a:pt x="15652" y="13171"/>
                </a:cubicBezTo>
                <a:cubicBezTo>
                  <a:pt x="15698" y="13347"/>
                  <a:pt x="15726" y="13553"/>
                  <a:pt x="15801" y="13717"/>
                </a:cubicBezTo>
                <a:cubicBezTo>
                  <a:pt x="15828" y="13406"/>
                  <a:pt x="15902" y="13119"/>
                  <a:pt x="15999" y="12824"/>
                </a:cubicBezTo>
                <a:cubicBezTo>
                  <a:pt x="16047" y="12679"/>
                  <a:pt x="16060" y="12625"/>
                  <a:pt x="16073" y="12774"/>
                </a:cubicBezTo>
              </a:path>
              <a:path w="1588" h="1142">
                <a:moveTo>
                  <a:pt x="16321" y="13271"/>
                </a:moveTo>
                <a:cubicBezTo>
                  <a:pt x="16432" y="13256"/>
                  <a:pt x="16598" y="13192"/>
                  <a:pt x="16669" y="13221"/>
                </a:cubicBezTo>
              </a:path>
              <a:path w="1588" h="1142">
                <a:moveTo>
                  <a:pt x="16321" y="13469"/>
                </a:moveTo>
                <a:cubicBezTo>
                  <a:pt x="16462" y="13448"/>
                  <a:pt x="16601" y="13419"/>
                  <a:pt x="16743" y="13419"/>
                </a:cubicBezTo>
              </a:path>
              <a:path w="1588" h="1142">
                <a:moveTo>
                  <a:pt x="17115" y="12576"/>
                </a:moveTo>
                <a:cubicBezTo>
                  <a:pt x="17078" y="12894"/>
                  <a:pt x="17060" y="13222"/>
                  <a:pt x="17041" y="13543"/>
                </a:cubicBezTo>
                <a:cubicBezTo>
                  <a:pt x="17036" y="13628"/>
                  <a:pt x="17019" y="13681"/>
                  <a:pt x="17041" y="136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96040" y="4680000"/>
            <a:ext cx="374760" cy="195120"/>
          </a:xfrm>
          <a:custGeom>
            <a:avLst/>
            <a:gdLst/>
            <a:ahLst/>
            <a:rect l="l" t="t" r="r" b="b"/>
            <a:pathLst>
              <a:path w="1043" h="546">
                <a:moveTo>
                  <a:pt x="17487" y="13320"/>
                </a:moveTo>
                <a:cubicBezTo>
                  <a:pt x="17487" y="13353"/>
                  <a:pt x="17487" y="13386"/>
                  <a:pt x="17487" y="13419"/>
                </a:cubicBezTo>
              </a:path>
              <a:path w="1043" h="546">
                <a:moveTo>
                  <a:pt x="17810" y="13047"/>
                </a:moveTo>
                <a:cubicBezTo>
                  <a:pt x="17810" y="13107"/>
                  <a:pt x="17768" y="13501"/>
                  <a:pt x="17835" y="13519"/>
                </a:cubicBezTo>
                <a:cubicBezTo>
                  <a:pt x="18025" y="13569"/>
                  <a:pt x="18094" y="13261"/>
                  <a:pt x="18132" y="13146"/>
                </a:cubicBezTo>
                <a:cubicBezTo>
                  <a:pt x="18120" y="13224"/>
                  <a:pt x="17994" y="13563"/>
                  <a:pt x="18207" y="13543"/>
                </a:cubicBezTo>
                <a:cubicBezTo>
                  <a:pt x="18489" y="13517"/>
                  <a:pt x="18572" y="13254"/>
                  <a:pt x="18455" y="13047"/>
                </a:cubicBezTo>
                <a:cubicBezTo>
                  <a:pt x="18408" y="13001"/>
                  <a:pt x="18396" y="12983"/>
                  <a:pt x="18355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67360" y="4518000"/>
            <a:ext cx="231840" cy="357120"/>
          </a:xfrm>
          <a:custGeom>
            <a:avLst/>
            <a:gdLst/>
            <a:ahLst/>
            <a:rect l="l" t="t" r="r" b="b"/>
            <a:pathLst>
              <a:path w="646" h="993">
                <a:moveTo>
                  <a:pt x="19124" y="12551"/>
                </a:moveTo>
                <a:cubicBezTo>
                  <a:pt x="19096" y="12856"/>
                  <a:pt x="19084" y="13139"/>
                  <a:pt x="19100" y="13444"/>
                </a:cubicBezTo>
                <a:cubicBezTo>
                  <a:pt x="19123" y="13209"/>
                  <a:pt x="19168" y="13136"/>
                  <a:pt x="19323" y="12973"/>
                </a:cubicBezTo>
                <a:cubicBezTo>
                  <a:pt x="19406" y="13130"/>
                  <a:pt x="19326" y="13381"/>
                  <a:pt x="19447" y="13519"/>
                </a:cubicBezTo>
                <a:cubicBezTo>
                  <a:pt x="19524" y="13607"/>
                  <a:pt x="19656" y="13460"/>
                  <a:pt x="19720" y="134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Find the volume of the pr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666880"/>
            <a:ext cx="685800" cy="182880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3124080"/>
            <a:ext cx="3124080" cy="167652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5181480"/>
            <a:ext cx="2057400" cy="1295640"/>
          </a:xfrm>
          <a:prstGeom prst="cube">
            <a:avLst>
              <a:gd name="adj" fmla="val 66666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32767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c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41911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.5c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49528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2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39625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6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30481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0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5867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3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4724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8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5257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59760" y="5456160"/>
            <a:ext cx="581040" cy="482760"/>
          </a:xfrm>
          <a:custGeom>
            <a:avLst/>
            <a:gdLst/>
            <a:ahLst/>
            <a:rect l="l" t="t" r="r" b="b"/>
            <a:pathLst>
              <a:path w="1614" h="1340">
                <a:moveTo>
                  <a:pt x="20910" y="15156"/>
                </a:moveTo>
                <a:cubicBezTo>
                  <a:pt x="20910" y="15184"/>
                  <a:pt x="20913" y="15194"/>
                  <a:pt x="20935" y="15205"/>
                </a:cubicBezTo>
              </a:path>
              <a:path w="1614" h="1340">
                <a:moveTo>
                  <a:pt x="20935" y="15205"/>
                </a:moveTo>
                <a:lnTo>
                  <a:pt x="20935" y="15205"/>
                </a:lnTo>
              </a:path>
              <a:path w="1614" h="1340">
                <a:moveTo>
                  <a:pt x="20191" y="16495"/>
                </a:moveTo>
                <a:cubicBezTo>
                  <a:pt x="20183" y="16495"/>
                  <a:pt x="20174" y="16495"/>
                  <a:pt x="20166" y="16495"/>
                </a:cubicBezTo>
              </a:path>
              <a:path w="1614" h="1340">
                <a:moveTo>
                  <a:pt x="21679" y="15875"/>
                </a:moveTo>
                <a:cubicBezTo>
                  <a:pt x="21707" y="15985"/>
                  <a:pt x="21766" y="16096"/>
                  <a:pt x="21779" y="16222"/>
                </a:cubicBezTo>
                <a:cubicBezTo>
                  <a:pt x="21779" y="16263"/>
                  <a:pt x="21779" y="16305"/>
                  <a:pt x="21779" y="163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65960" y="5402160"/>
            <a:ext cx="222120" cy="349200"/>
          </a:xfrm>
          <a:custGeom>
            <a:avLst/>
            <a:gdLst/>
            <a:ahLst/>
            <a:rect l="l" t="t" r="r" b="b"/>
            <a:pathLst>
              <a:path w="621" h="968">
                <a:moveTo>
                  <a:pt x="17959" y="15156"/>
                </a:moveTo>
                <a:cubicBezTo>
                  <a:pt x="18124" y="15384"/>
                  <a:pt x="18254" y="15637"/>
                  <a:pt x="18405" y="15875"/>
                </a:cubicBezTo>
                <a:cubicBezTo>
                  <a:pt x="18430" y="15908"/>
                  <a:pt x="18454" y="15941"/>
                  <a:pt x="18479" y="15974"/>
                </a:cubicBezTo>
                <a:cubicBezTo>
                  <a:pt x="18418" y="15661"/>
                  <a:pt x="18418" y="15385"/>
                  <a:pt x="18529" y="15081"/>
                </a:cubicBezTo>
                <a:cubicBezTo>
                  <a:pt x="18587" y="14921"/>
                  <a:pt x="18564" y="15056"/>
                  <a:pt x="18529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0" y="5375160"/>
            <a:ext cx="214200" cy="349200"/>
          </a:xfrm>
          <a:custGeom>
            <a:avLst/>
            <a:gdLst/>
            <a:ahLst/>
            <a:rect l="l" t="t" r="r" b="b"/>
            <a:pathLst>
              <a:path w="596" h="969">
                <a:moveTo>
                  <a:pt x="19075" y="15404"/>
                </a:moveTo>
                <a:cubicBezTo>
                  <a:pt x="19013" y="15404"/>
                  <a:pt x="19228" y="15309"/>
                  <a:pt x="19248" y="15304"/>
                </a:cubicBezTo>
                <a:cubicBezTo>
                  <a:pt x="19306" y="15304"/>
                  <a:pt x="19331" y="15287"/>
                  <a:pt x="19323" y="15329"/>
                </a:cubicBezTo>
              </a:path>
              <a:path w="596" h="969">
                <a:moveTo>
                  <a:pt x="19124" y="15577"/>
                </a:moveTo>
                <a:cubicBezTo>
                  <a:pt x="19224" y="15556"/>
                  <a:pt x="19320" y="15528"/>
                  <a:pt x="19422" y="15528"/>
                </a:cubicBezTo>
              </a:path>
              <a:path w="596" h="969">
                <a:moveTo>
                  <a:pt x="19571" y="15106"/>
                </a:moveTo>
                <a:cubicBezTo>
                  <a:pt x="19551" y="15048"/>
                  <a:pt x="19531" y="14992"/>
                  <a:pt x="19521" y="14932"/>
                </a:cubicBezTo>
                <a:cubicBezTo>
                  <a:pt x="19563" y="15186"/>
                  <a:pt x="19597" y="15420"/>
                  <a:pt x="19621" y="15677"/>
                </a:cubicBezTo>
                <a:cubicBezTo>
                  <a:pt x="19629" y="15760"/>
                  <a:pt x="19645" y="15958"/>
                  <a:pt x="19645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05760" y="5429160"/>
            <a:ext cx="277560" cy="214560"/>
          </a:xfrm>
          <a:custGeom>
            <a:avLst/>
            <a:gdLst/>
            <a:ahLst/>
            <a:rect l="l" t="t" r="r" b="b"/>
            <a:pathLst>
              <a:path w="770" h="597">
                <a:moveTo>
                  <a:pt x="20017" y="15429"/>
                </a:moveTo>
                <a:cubicBezTo>
                  <a:pt x="20017" y="15453"/>
                  <a:pt x="20017" y="15462"/>
                  <a:pt x="20017" y="15478"/>
                </a:cubicBezTo>
              </a:path>
              <a:path w="770" h="597">
                <a:moveTo>
                  <a:pt x="20191" y="15230"/>
                </a:moveTo>
                <a:cubicBezTo>
                  <a:pt x="20204" y="15286"/>
                  <a:pt x="20258" y="15763"/>
                  <a:pt x="20340" y="15627"/>
                </a:cubicBezTo>
                <a:cubicBezTo>
                  <a:pt x="20412" y="15483"/>
                  <a:pt x="20436" y="15438"/>
                  <a:pt x="20439" y="15329"/>
                </a:cubicBezTo>
                <a:cubicBezTo>
                  <a:pt x="20439" y="15321"/>
                  <a:pt x="20439" y="15312"/>
                  <a:pt x="20439" y="15304"/>
                </a:cubicBezTo>
                <a:cubicBezTo>
                  <a:pt x="20467" y="15456"/>
                  <a:pt x="20503" y="15614"/>
                  <a:pt x="20687" y="15503"/>
                </a:cubicBezTo>
                <a:cubicBezTo>
                  <a:pt x="20864" y="15396"/>
                  <a:pt x="20797" y="15168"/>
                  <a:pt x="20638" y="15081"/>
                </a:cubicBezTo>
                <a:cubicBezTo>
                  <a:pt x="20621" y="15081"/>
                  <a:pt x="20605" y="15081"/>
                  <a:pt x="20588" y="150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16880" y="5286240"/>
            <a:ext cx="268200" cy="277920"/>
          </a:xfrm>
          <a:custGeom>
            <a:avLst/>
            <a:gdLst/>
            <a:ahLst/>
            <a:rect l="l" t="t" r="r" b="b"/>
            <a:pathLst>
              <a:path w="746" h="770">
                <a:moveTo>
                  <a:pt x="21158" y="14684"/>
                </a:moveTo>
                <a:cubicBezTo>
                  <a:pt x="21243" y="14929"/>
                  <a:pt x="21313" y="15179"/>
                  <a:pt x="21382" y="15429"/>
                </a:cubicBezTo>
                <a:cubicBezTo>
                  <a:pt x="21376" y="15335"/>
                  <a:pt x="21295" y="14982"/>
                  <a:pt x="21506" y="15007"/>
                </a:cubicBezTo>
                <a:cubicBezTo>
                  <a:pt x="21712" y="15031"/>
                  <a:pt x="21604" y="15381"/>
                  <a:pt x="21779" y="15453"/>
                </a:cubicBezTo>
                <a:cubicBezTo>
                  <a:pt x="21820" y="15453"/>
                  <a:pt x="21862" y="15453"/>
                  <a:pt x="21903" y="154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0" y="5848200"/>
            <a:ext cx="322200" cy="216000"/>
          </a:xfrm>
          <a:custGeom>
            <a:avLst/>
            <a:gdLst/>
            <a:ahLst/>
            <a:rect l="l" t="t" r="r" b="b"/>
            <a:pathLst>
              <a:path w="894" h="596">
                <a:moveTo>
                  <a:pt x="19050" y="16421"/>
                </a:moveTo>
                <a:cubicBezTo>
                  <a:pt x="19116" y="16421"/>
                  <a:pt x="19163" y="16384"/>
                  <a:pt x="19224" y="16371"/>
                </a:cubicBezTo>
                <a:cubicBezTo>
                  <a:pt x="19240" y="16371"/>
                  <a:pt x="19257" y="16371"/>
                  <a:pt x="19273" y="16371"/>
                </a:cubicBezTo>
              </a:path>
              <a:path w="894" h="596">
                <a:moveTo>
                  <a:pt x="19050" y="16669"/>
                </a:moveTo>
                <a:cubicBezTo>
                  <a:pt x="19111" y="16647"/>
                  <a:pt x="19160" y="16619"/>
                  <a:pt x="19224" y="16619"/>
                </a:cubicBezTo>
              </a:path>
              <a:path w="894" h="596">
                <a:moveTo>
                  <a:pt x="19546" y="16297"/>
                </a:moveTo>
                <a:cubicBezTo>
                  <a:pt x="19546" y="16188"/>
                  <a:pt x="19524" y="16330"/>
                  <a:pt x="19521" y="16371"/>
                </a:cubicBezTo>
                <a:cubicBezTo>
                  <a:pt x="19511" y="16535"/>
                  <a:pt x="19520" y="16729"/>
                  <a:pt x="19621" y="16842"/>
                </a:cubicBezTo>
                <a:cubicBezTo>
                  <a:pt x="19743" y="16816"/>
                  <a:pt x="19896" y="16760"/>
                  <a:pt x="19943" y="16619"/>
                </a:cubicBezTo>
                <a:cubicBezTo>
                  <a:pt x="19970" y="16538"/>
                  <a:pt x="19943" y="16528"/>
                  <a:pt x="19893" y="16495"/>
                </a:cubicBezTo>
                <a:cubicBezTo>
                  <a:pt x="19813" y="16495"/>
                  <a:pt x="19770" y="16603"/>
                  <a:pt x="19745" y="16718"/>
                </a:cubicBezTo>
                <a:cubicBezTo>
                  <a:pt x="19731" y="16784"/>
                  <a:pt x="19751" y="16768"/>
                  <a:pt x="19794" y="167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40760" y="5786280"/>
            <a:ext cx="223560" cy="179640"/>
          </a:xfrm>
          <a:custGeom>
            <a:avLst/>
            <a:gdLst/>
            <a:ahLst/>
            <a:rect l="l" t="t" r="r" b="b"/>
            <a:pathLst>
              <a:path w="622" h="498">
                <a:moveTo>
                  <a:pt x="20389" y="16098"/>
                </a:moveTo>
                <a:cubicBezTo>
                  <a:pt x="20479" y="16170"/>
                  <a:pt x="20513" y="16372"/>
                  <a:pt x="20538" y="16495"/>
                </a:cubicBezTo>
                <a:cubicBezTo>
                  <a:pt x="20555" y="16581"/>
                  <a:pt x="20529" y="16594"/>
                  <a:pt x="20563" y="16446"/>
                </a:cubicBezTo>
              </a:path>
              <a:path w="622" h="498">
                <a:moveTo>
                  <a:pt x="20662" y="16123"/>
                </a:moveTo>
                <a:cubicBezTo>
                  <a:pt x="20719" y="16095"/>
                  <a:pt x="20742" y="16084"/>
                  <a:pt x="20786" y="16073"/>
                </a:cubicBezTo>
                <a:cubicBezTo>
                  <a:pt x="20860" y="16221"/>
                  <a:pt x="20825" y="16322"/>
                  <a:pt x="20762" y="16470"/>
                </a:cubicBezTo>
                <a:cubicBezTo>
                  <a:pt x="20754" y="16487"/>
                  <a:pt x="20745" y="16503"/>
                  <a:pt x="20737" y="16520"/>
                </a:cubicBezTo>
                <a:cubicBezTo>
                  <a:pt x="20835" y="16538"/>
                  <a:pt x="20909" y="16512"/>
                  <a:pt x="21010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53240" y="5840280"/>
            <a:ext cx="17640" cy="9720"/>
          </a:xfrm>
          <a:custGeom>
            <a:avLst/>
            <a:gdLst/>
            <a:ahLst/>
            <a:rect l="l" t="t" r="r" b="b"/>
            <a:pathLst>
              <a:path w="50" h="26">
                <a:moveTo>
                  <a:pt x="21258" y="16247"/>
                </a:moveTo>
                <a:cubicBezTo>
                  <a:pt x="21258" y="16208"/>
                  <a:pt x="21274" y="16222"/>
                  <a:pt x="21307" y="162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912080" y="5697360"/>
            <a:ext cx="108000" cy="169920"/>
          </a:xfrm>
          <a:custGeom>
            <a:avLst/>
            <a:gdLst/>
            <a:ahLst/>
            <a:rect l="l" t="t" r="r" b="b"/>
            <a:pathLst>
              <a:path w="299" h="473">
                <a:moveTo>
                  <a:pt x="22027" y="15825"/>
                </a:moveTo>
                <a:cubicBezTo>
                  <a:pt x="21996" y="15965"/>
                  <a:pt x="21935" y="16102"/>
                  <a:pt x="22002" y="16247"/>
                </a:cubicBezTo>
                <a:cubicBezTo>
                  <a:pt x="22018" y="16264"/>
                  <a:pt x="22035" y="16280"/>
                  <a:pt x="22051" y="16297"/>
                </a:cubicBezTo>
                <a:cubicBezTo>
                  <a:pt x="22218" y="16255"/>
                  <a:pt x="22375" y="16087"/>
                  <a:pt x="22275" y="15875"/>
                </a:cubicBezTo>
                <a:cubicBezTo>
                  <a:pt x="22183" y="15844"/>
                  <a:pt x="22141" y="15843"/>
                  <a:pt x="22076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69080" y="6180120"/>
            <a:ext cx="946080" cy="500040"/>
          </a:xfrm>
          <a:custGeom>
            <a:avLst/>
            <a:gdLst/>
            <a:ahLst/>
            <a:rect l="l" t="t" r="r" b="b"/>
            <a:pathLst>
              <a:path w="2630" h="1390">
                <a:moveTo>
                  <a:pt x="18876" y="17413"/>
                </a:moveTo>
                <a:cubicBezTo>
                  <a:pt x="18946" y="17397"/>
                  <a:pt x="19005" y="17367"/>
                  <a:pt x="19075" y="17338"/>
                </a:cubicBezTo>
              </a:path>
              <a:path w="2630" h="1390">
                <a:moveTo>
                  <a:pt x="18802" y="17611"/>
                </a:moveTo>
                <a:cubicBezTo>
                  <a:pt x="18885" y="17586"/>
                  <a:pt x="18967" y="17563"/>
                  <a:pt x="19050" y="17537"/>
                </a:cubicBezTo>
              </a:path>
              <a:path w="2630" h="1390">
                <a:moveTo>
                  <a:pt x="21357" y="17165"/>
                </a:moveTo>
                <a:cubicBezTo>
                  <a:pt x="21398" y="17305"/>
                  <a:pt x="21423" y="17417"/>
                  <a:pt x="21431" y="17562"/>
                </a:cubicBezTo>
              </a:path>
              <a:path w="2630" h="1390">
                <a:moveTo>
                  <a:pt x="19025" y="18554"/>
                </a:moveTo>
                <a:cubicBezTo>
                  <a:pt x="19074" y="18513"/>
                  <a:pt x="19127" y="18489"/>
                  <a:pt x="19174" y="184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65960" y="6143760"/>
            <a:ext cx="1892160" cy="652320"/>
          </a:xfrm>
          <a:custGeom>
            <a:avLst/>
            <a:gdLst/>
            <a:ahLst/>
            <a:rect l="l" t="t" r="r" b="b"/>
            <a:pathLst>
              <a:path w="5259" h="1811">
                <a:moveTo>
                  <a:pt x="19645" y="17438"/>
                </a:moveTo>
                <a:cubicBezTo>
                  <a:pt x="19645" y="17469"/>
                  <a:pt x="19682" y="17325"/>
                  <a:pt x="19745" y="17289"/>
                </a:cubicBezTo>
                <a:cubicBezTo>
                  <a:pt x="19803" y="17256"/>
                  <a:pt x="19902" y="17246"/>
                  <a:pt x="19968" y="17239"/>
                </a:cubicBezTo>
                <a:cubicBezTo>
                  <a:pt x="20079" y="17267"/>
                  <a:pt x="20001" y="17519"/>
                  <a:pt x="19993" y="17587"/>
                </a:cubicBezTo>
                <a:cubicBezTo>
                  <a:pt x="19980" y="17688"/>
                  <a:pt x="19908" y="17865"/>
                  <a:pt x="19993" y="17810"/>
                </a:cubicBezTo>
              </a:path>
              <a:path w="5259" h="1811">
                <a:moveTo>
                  <a:pt x="20241" y="17264"/>
                </a:moveTo>
                <a:cubicBezTo>
                  <a:pt x="20299" y="17264"/>
                  <a:pt x="20356" y="17264"/>
                  <a:pt x="20414" y="17264"/>
                </a:cubicBezTo>
                <a:cubicBezTo>
                  <a:pt x="20400" y="17423"/>
                  <a:pt x="20337" y="17521"/>
                  <a:pt x="20265" y="17661"/>
                </a:cubicBezTo>
                <a:cubicBezTo>
                  <a:pt x="20242" y="17709"/>
                  <a:pt x="20234" y="17724"/>
                  <a:pt x="20241" y="17760"/>
                </a:cubicBezTo>
                <a:cubicBezTo>
                  <a:pt x="20323" y="17768"/>
                  <a:pt x="20430" y="17680"/>
                  <a:pt x="20489" y="17686"/>
                </a:cubicBezTo>
                <a:cubicBezTo>
                  <a:pt x="20531" y="17730"/>
                  <a:pt x="20562" y="17726"/>
                  <a:pt x="20613" y="17661"/>
                </a:cubicBezTo>
              </a:path>
              <a:path w="5259" h="1811">
                <a:moveTo>
                  <a:pt x="20960" y="17413"/>
                </a:moveTo>
                <a:cubicBezTo>
                  <a:pt x="20960" y="17462"/>
                  <a:pt x="20960" y="17479"/>
                  <a:pt x="20960" y="17512"/>
                </a:cubicBezTo>
              </a:path>
              <a:path w="5259" h="1811">
                <a:moveTo>
                  <a:pt x="21853" y="17066"/>
                </a:moveTo>
                <a:cubicBezTo>
                  <a:pt x="21809" y="17204"/>
                  <a:pt x="21786" y="17316"/>
                  <a:pt x="21779" y="17462"/>
                </a:cubicBezTo>
                <a:cubicBezTo>
                  <a:pt x="21965" y="17462"/>
                  <a:pt x="21979" y="17445"/>
                  <a:pt x="22051" y="17289"/>
                </a:cubicBezTo>
                <a:cubicBezTo>
                  <a:pt x="21926" y="17128"/>
                  <a:pt x="21858" y="17129"/>
                  <a:pt x="21654" y="17165"/>
                </a:cubicBezTo>
              </a:path>
              <a:path w="5259" h="1811">
                <a:moveTo>
                  <a:pt x="19050" y="18703"/>
                </a:moveTo>
                <a:cubicBezTo>
                  <a:pt x="19107" y="18674"/>
                  <a:pt x="19163" y="18640"/>
                  <a:pt x="19224" y="18628"/>
                </a:cubicBezTo>
              </a:path>
              <a:path w="5259" h="1811">
                <a:moveTo>
                  <a:pt x="20166" y="18306"/>
                </a:moveTo>
                <a:cubicBezTo>
                  <a:pt x="20157" y="18278"/>
                  <a:pt x="20292" y="18222"/>
                  <a:pt x="20365" y="18182"/>
                </a:cubicBezTo>
                <a:cubicBezTo>
                  <a:pt x="20438" y="18145"/>
                  <a:pt x="20443" y="18128"/>
                  <a:pt x="20489" y="18132"/>
                </a:cubicBezTo>
                <a:cubicBezTo>
                  <a:pt x="20470" y="18285"/>
                  <a:pt x="20425" y="18425"/>
                  <a:pt x="20414" y="18579"/>
                </a:cubicBezTo>
                <a:cubicBezTo>
                  <a:pt x="20414" y="18614"/>
                  <a:pt x="20419" y="18613"/>
                  <a:pt x="20439" y="18554"/>
                </a:cubicBezTo>
              </a:path>
              <a:path w="5259" h="1811">
                <a:moveTo>
                  <a:pt x="20712" y="18083"/>
                </a:moveTo>
                <a:cubicBezTo>
                  <a:pt x="20791" y="18060"/>
                  <a:pt x="20815" y="18051"/>
                  <a:pt x="20886" y="18058"/>
                </a:cubicBezTo>
                <a:cubicBezTo>
                  <a:pt x="20861" y="18228"/>
                  <a:pt x="20774" y="18332"/>
                  <a:pt x="20687" y="18479"/>
                </a:cubicBezTo>
                <a:cubicBezTo>
                  <a:pt x="20813" y="18468"/>
                  <a:pt x="20898" y="18436"/>
                  <a:pt x="21010" y="18380"/>
                </a:cubicBezTo>
              </a:path>
              <a:path w="5259" h="1811">
                <a:moveTo>
                  <a:pt x="21233" y="17934"/>
                </a:moveTo>
                <a:cubicBezTo>
                  <a:pt x="21140" y="18126"/>
                  <a:pt x="21055" y="18267"/>
                  <a:pt x="21084" y="18479"/>
                </a:cubicBezTo>
                <a:cubicBezTo>
                  <a:pt x="21245" y="18479"/>
                  <a:pt x="21431" y="18366"/>
                  <a:pt x="21431" y="18157"/>
                </a:cubicBezTo>
                <a:cubicBezTo>
                  <a:pt x="21431" y="18002"/>
                  <a:pt x="21253" y="18039"/>
                  <a:pt x="21158" y="18033"/>
                </a:cubicBezTo>
              </a:path>
              <a:path w="5259" h="1811">
                <a:moveTo>
                  <a:pt x="21704" y="18207"/>
                </a:moveTo>
                <a:cubicBezTo>
                  <a:pt x="21729" y="18289"/>
                  <a:pt x="21763" y="18374"/>
                  <a:pt x="21779" y="18455"/>
                </a:cubicBezTo>
                <a:cubicBezTo>
                  <a:pt x="21779" y="18346"/>
                  <a:pt x="21800" y="18199"/>
                  <a:pt x="21903" y="18132"/>
                </a:cubicBezTo>
                <a:cubicBezTo>
                  <a:pt x="22023" y="18053"/>
                  <a:pt x="22075" y="18272"/>
                  <a:pt x="22101" y="18331"/>
                </a:cubicBezTo>
                <a:cubicBezTo>
                  <a:pt x="22109" y="18347"/>
                  <a:pt x="22118" y="18364"/>
                  <a:pt x="22126" y="18380"/>
                </a:cubicBezTo>
                <a:cubicBezTo>
                  <a:pt x="22110" y="18285"/>
                  <a:pt x="22092" y="18221"/>
                  <a:pt x="22126" y="18132"/>
                </a:cubicBezTo>
                <a:cubicBezTo>
                  <a:pt x="22271" y="18103"/>
                  <a:pt x="22331" y="18169"/>
                  <a:pt x="22399" y="18306"/>
                </a:cubicBezTo>
                <a:cubicBezTo>
                  <a:pt x="22399" y="18331"/>
                  <a:pt x="22399" y="18339"/>
                  <a:pt x="22399" y="18306"/>
                </a:cubicBezTo>
              </a:path>
              <a:path w="5259" h="1811">
                <a:moveTo>
                  <a:pt x="22399" y="17760"/>
                </a:moveTo>
                <a:cubicBezTo>
                  <a:pt x="22449" y="17715"/>
                  <a:pt x="22484" y="17682"/>
                  <a:pt x="22547" y="17661"/>
                </a:cubicBezTo>
                <a:cubicBezTo>
                  <a:pt x="22547" y="17746"/>
                  <a:pt x="22552" y="17793"/>
                  <a:pt x="22498" y="17859"/>
                </a:cubicBezTo>
                <a:cubicBezTo>
                  <a:pt x="22572" y="17897"/>
                  <a:pt x="22642" y="17906"/>
                  <a:pt x="22622" y="18008"/>
                </a:cubicBezTo>
                <a:cubicBezTo>
                  <a:pt x="22608" y="18079"/>
                  <a:pt x="22530" y="18064"/>
                  <a:pt x="22473" y="18083"/>
                </a:cubicBezTo>
              </a:path>
              <a:path w="5259" h="1811">
                <a:moveTo>
                  <a:pt x="22299" y="18678"/>
                </a:moveTo>
                <a:cubicBezTo>
                  <a:pt x="22454" y="18626"/>
                  <a:pt x="22611" y="18566"/>
                  <a:pt x="22771" y="18529"/>
                </a:cubicBezTo>
                <a:cubicBezTo>
                  <a:pt x="22905" y="18498"/>
                  <a:pt x="23063" y="18496"/>
                  <a:pt x="23192" y="18455"/>
                </a:cubicBezTo>
                <a:cubicBezTo>
                  <a:pt x="23200" y="18447"/>
                  <a:pt x="23209" y="18438"/>
                  <a:pt x="23217" y="18430"/>
                </a:cubicBezTo>
                <a:cubicBezTo>
                  <a:pt x="23197" y="18288"/>
                  <a:pt x="23204" y="18152"/>
                  <a:pt x="23192" y="18008"/>
                </a:cubicBezTo>
                <a:cubicBezTo>
                  <a:pt x="23178" y="17832"/>
                  <a:pt x="23201" y="17602"/>
                  <a:pt x="23143" y="17438"/>
                </a:cubicBezTo>
                <a:cubicBezTo>
                  <a:pt x="23126" y="17389"/>
                  <a:pt x="23112" y="17384"/>
                  <a:pt x="23068" y="17363"/>
                </a:cubicBezTo>
                <a:cubicBezTo>
                  <a:pt x="23023" y="17342"/>
                  <a:pt x="22841" y="17402"/>
                  <a:pt x="22796" y="17413"/>
                </a:cubicBezTo>
                <a:cubicBezTo>
                  <a:pt x="22723" y="17431"/>
                  <a:pt x="22644" y="17456"/>
                  <a:pt x="22572" y="17487"/>
                </a:cubicBezTo>
                <a:cubicBezTo>
                  <a:pt x="22473" y="17530"/>
                  <a:pt x="22375" y="17571"/>
                  <a:pt x="22275" y="17611"/>
                </a:cubicBezTo>
                <a:cubicBezTo>
                  <a:pt x="22209" y="17638"/>
                  <a:pt x="22144" y="17659"/>
                  <a:pt x="22076" y="17686"/>
                </a:cubicBezTo>
                <a:cubicBezTo>
                  <a:pt x="21992" y="17720"/>
                  <a:pt x="21915" y="17738"/>
                  <a:pt x="21828" y="17760"/>
                </a:cubicBezTo>
                <a:cubicBezTo>
                  <a:pt x="21625" y="17811"/>
                  <a:pt x="21443" y="17832"/>
                  <a:pt x="21233" y="17835"/>
                </a:cubicBezTo>
                <a:cubicBezTo>
                  <a:pt x="21134" y="17837"/>
                  <a:pt x="21032" y="17842"/>
                  <a:pt x="20935" y="17859"/>
                </a:cubicBezTo>
                <a:cubicBezTo>
                  <a:pt x="20762" y="17889"/>
                  <a:pt x="20590" y="17884"/>
                  <a:pt x="20414" y="17909"/>
                </a:cubicBezTo>
                <a:cubicBezTo>
                  <a:pt x="20182" y="17942"/>
                  <a:pt x="19954" y="17993"/>
                  <a:pt x="19720" y="18008"/>
                </a:cubicBezTo>
                <a:cubicBezTo>
                  <a:pt x="19514" y="18021"/>
                  <a:pt x="19304" y="18048"/>
                  <a:pt x="19100" y="18083"/>
                </a:cubicBezTo>
                <a:cubicBezTo>
                  <a:pt x="18914" y="18115"/>
                  <a:pt x="18737" y="18163"/>
                  <a:pt x="18554" y="18207"/>
                </a:cubicBezTo>
                <a:cubicBezTo>
                  <a:pt x="18468" y="18228"/>
                  <a:pt x="18386" y="18249"/>
                  <a:pt x="18306" y="18281"/>
                </a:cubicBezTo>
                <a:cubicBezTo>
                  <a:pt x="18238" y="18309"/>
                  <a:pt x="18050" y="18361"/>
                  <a:pt x="18008" y="18405"/>
                </a:cubicBezTo>
                <a:cubicBezTo>
                  <a:pt x="17953" y="18462"/>
                  <a:pt x="17965" y="18413"/>
                  <a:pt x="17959" y="18529"/>
                </a:cubicBezTo>
                <a:cubicBezTo>
                  <a:pt x="17957" y="18575"/>
                  <a:pt x="17980" y="18813"/>
                  <a:pt x="18008" y="18852"/>
                </a:cubicBezTo>
                <a:cubicBezTo>
                  <a:pt x="18024" y="18875"/>
                  <a:pt x="18062" y="18857"/>
                  <a:pt x="18083" y="18876"/>
                </a:cubicBezTo>
                <a:cubicBezTo>
                  <a:pt x="18091" y="18876"/>
                  <a:pt x="18099" y="18876"/>
                  <a:pt x="18107" y="18876"/>
                </a:cubicBezTo>
              </a:path>
              <a:path w="5259" h="1811">
                <a:moveTo>
                  <a:pt x="18231" y="18579"/>
                </a:moveTo>
                <a:cubicBezTo>
                  <a:pt x="18249" y="18669"/>
                  <a:pt x="18333" y="18746"/>
                  <a:pt x="18405" y="18802"/>
                </a:cubicBezTo>
                <a:cubicBezTo>
                  <a:pt x="18431" y="18822"/>
                  <a:pt x="18500" y="18849"/>
                  <a:pt x="18529" y="18852"/>
                </a:cubicBezTo>
                <a:cubicBezTo>
                  <a:pt x="18537" y="18852"/>
                  <a:pt x="18546" y="18852"/>
                  <a:pt x="18554" y="18852"/>
                </a:cubicBezTo>
                <a:cubicBezTo>
                  <a:pt x="18570" y="18741"/>
                  <a:pt x="18611" y="18681"/>
                  <a:pt x="18653" y="18579"/>
                </a:cubicBezTo>
                <a:cubicBezTo>
                  <a:pt x="18667" y="18544"/>
                  <a:pt x="18731" y="18416"/>
                  <a:pt x="18728" y="18405"/>
                </a:cubicBezTo>
                <a:cubicBezTo>
                  <a:pt x="18720" y="18388"/>
                  <a:pt x="18711" y="18372"/>
                  <a:pt x="18703" y="183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92080" y="5054760"/>
            <a:ext cx="1046160" cy="615960"/>
          </a:xfrm>
          <a:custGeom>
            <a:avLst/>
            <a:gdLst/>
            <a:ahLst/>
            <a:rect l="l" t="t" r="r" b="b"/>
            <a:pathLst>
              <a:path w="2904" h="1713">
                <a:moveTo>
                  <a:pt x="2480" y="14486"/>
                </a:moveTo>
                <a:cubicBezTo>
                  <a:pt x="2597" y="14692"/>
                  <a:pt x="2713" y="14899"/>
                  <a:pt x="2828" y="15106"/>
                </a:cubicBezTo>
                <a:cubicBezTo>
                  <a:pt x="2828" y="14922"/>
                  <a:pt x="2788" y="14745"/>
                  <a:pt x="2803" y="14560"/>
                </a:cubicBezTo>
                <a:cubicBezTo>
                  <a:pt x="2822" y="14503"/>
                  <a:pt x="2813" y="14478"/>
                  <a:pt x="2853" y="14486"/>
                </a:cubicBezTo>
              </a:path>
              <a:path w="2904" h="1713">
                <a:moveTo>
                  <a:pt x="3547" y="14337"/>
                </a:moveTo>
                <a:cubicBezTo>
                  <a:pt x="3580" y="14529"/>
                  <a:pt x="3610" y="14725"/>
                  <a:pt x="3671" y="14908"/>
                </a:cubicBezTo>
              </a:path>
              <a:path w="2904" h="1713">
                <a:moveTo>
                  <a:pt x="4068" y="14536"/>
                </a:moveTo>
                <a:cubicBezTo>
                  <a:pt x="4061" y="14595"/>
                  <a:pt x="4043" y="14924"/>
                  <a:pt x="4217" y="14808"/>
                </a:cubicBezTo>
                <a:cubicBezTo>
                  <a:pt x="4293" y="14706"/>
                  <a:pt x="4319" y="14670"/>
                  <a:pt x="4341" y="14585"/>
                </a:cubicBezTo>
                <a:cubicBezTo>
                  <a:pt x="4341" y="14577"/>
                  <a:pt x="4341" y="14568"/>
                  <a:pt x="4341" y="14560"/>
                </a:cubicBezTo>
                <a:cubicBezTo>
                  <a:pt x="4351" y="14631"/>
                  <a:pt x="4430" y="14832"/>
                  <a:pt x="4539" y="14709"/>
                </a:cubicBezTo>
                <a:cubicBezTo>
                  <a:pt x="4652" y="14581"/>
                  <a:pt x="4574" y="14491"/>
                  <a:pt x="4465" y="14436"/>
                </a:cubicBezTo>
              </a:path>
              <a:path w="2904" h="1713">
                <a:moveTo>
                  <a:pt x="4961" y="14039"/>
                </a:moveTo>
                <a:cubicBezTo>
                  <a:pt x="4982" y="14228"/>
                  <a:pt x="5039" y="14402"/>
                  <a:pt x="5085" y="14585"/>
                </a:cubicBezTo>
                <a:cubicBezTo>
                  <a:pt x="5085" y="14593"/>
                  <a:pt x="5085" y="14602"/>
                  <a:pt x="5085" y="14610"/>
                </a:cubicBezTo>
                <a:cubicBezTo>
                  <a:pt x="5110" y="14510"/>
                  <a:pt x="5144" y="14440"/>
                  <a:pt x="5209" y="14362"/>
                </a:cubicBezTo>
                <a:cubicBezTo>
                  <a:pt x="5334" y="14442"/>
                  <a:pt x="5361" y="14530"/>
                  <a:pt x="5383" y="14684"/>
                </a:cubicBezTo>
              </a:path>
              <a:path w="2904" h="1713">
                <a:moveTo>
                  <a:pt x="3919" y="15329"/>
                </a:moveTo>
                <a:cubicBezTo>
                  <a:pt x="3984" y="15307"/>
                  <a:pt x="3999" y="15299"/>
                  <a:pt x="4043" y="15304"/>
                </a:cubicBezTo>
                <a:cubicBezTo>
                  <a:pt x="4037" y="15383"/>
                  <a:pt x="4032" y="15434"/>
                  <a:pt x="3994" y="15503"/>
                </a:cubicBezTo>
                <a:cubicBezTo>
                  <a:pt x="4078" y="15451"/>
                  <a:pt x="4205" y="15500"/>
                  <a:pt x="4192" y="15627"/>
                </a:cubicBezTo>
                <a:cubicBezTo>
                  <a:pt x="4179" y="15750"/>
                  <a:pt x="4048" y="15756"/>
                  <a:pt x="3969" y="15726"/>
                </a:cubicBezTo>
              </a:path>
              <a:path w="2904" h="1713">
                <a:moveTo>
                  <a:pt x="4688" y="15180"/>
                </a:moveTo>
                <a:cubicBezTo>
                  <a:pt x="4622" y="15217"/>
                  <a:pt x="4571" y="15254"/>
                  <a:pt x="4514" y="15304"/>
                </a:cubicBezTo>
                <a:cubicBezTo>
                  <a:pt x="4562" y="15383"/>
                  <a:pt x="4658" y="15418"/>
                  <a:pt x="4688" y="15528"/>
                </a:cubicBezTo>
                <a:cubicBezTo>
                  <a:pt x="4688" y="15544"/>
                  <a:pt x="4688" y="15561"/>
                  <a:pt x="4688" y="15577"/>
                </a:cubicBezTo>
                <a:cubicBezTo>
                  <a:pt x="4546" y="15624"/>
                  <a:pt x="4652" y="15404"/>
                  <a:pt x="4663" y="15329"/>
                </a:cubicBezTo>
                <a:cubicBezTo>
                  <a:pt x="4668" y="15292"/>
                  <a:pt x="4663" y="15244"/>
                  <a:pt x="4663" y="15205"/>
                </a:cubicBezTo>
              </a:path>
              <a:path w="2904" h="1713">
                <a:moveTo>
                  <a:pt x="5184" y="15007"/>
                </a:moveTo>
                <a:cubicBezTo>
                  <a:pt x="5184" y="14915"/>
                  <a:pt x="5254" y="15117"/>
                  <a:pt x="5283" y="15205"/>
                </a:cubicBezTo>
                <a:cubicBezTo>
                  <a:pt x="5303" y="15282"/>
                  <a:pt x="5295" y="15300"/>
                  <a:pt x="5333" y="153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41280" y="2438280"/>
            <a:ext cx="1955880" cy="4027680"/>
          </a:xfrm>
          <a:custGeom>
            <a:avLst/>
            <a:gdLst/>
            <a:ahLst/>
            <a:rect l="l" t="t" r="r" b="b"/>
            <a:pathLst>
              <a:path w="5433" h="11188">
                <a:moveTo>
                  <a:pt x="6796" y="6821"/>
                </a:moveTo>
                <a:cubicBezTo>
                  <a:pt x="6846" y="6814"/>
                  <a:pt x="6895" y="6803"/>
                  <a:pt x="6945" y="6796"/>
                </a:cubicBezTo>
              </a:path>
              <a:path w="5433" h="11188">
                <a:moveTo>
                  <a:pt x="6821" y="6945"/>
                </a:moveTo>
                <a:cubicBezTo>
                  <a:pt x="6902" y="6892"/>
                  <a:pt x="6933" y="6873"/>
                  <a:pt x="6995" y="6846"/>
                </a:cubicBezTo>
              </a:path>
              <a:path w="5433" h="11188">
                <a:moveTo>
                  <a:pt x="7516" y="6846"/>
                </a:moveTo>
                <a:cubicBezTo>
                  <a:pt x="7524" y="6846"/>
                  <a:pt x="7533" y="6846"/>
                  <a:pt x="7541" y="6846"/>
                </a:cubicBezTo>
              </a:path>
              <a:path w="5433" h="11188">
                <a:moveTo>
                  <a:pt x="7541" y="6846"/>
                </a:moveTo>
                <a:lnTo>
                  <a:pt x="7541" y="6846"/>
                </a:lnTo>
              </a:path>
              <a:path w="5433" h="11188">
                <a:moveTo>
                  <a:pt x="8582" y="6772"/>
                </a:moveTo>
                <a:cubicBezTo>
                  <a:pt x="8590" y="6772"/>
                  <a:pt x="8599" y="6772"/>
                  <a:pt x="8607" y="6772"/>
                </a:cubicBezTo>
              </a:path>
              <a:path w="5433" h="11188">
                <a:moveTo>
                  <a:pt x="8607" y="6772"/>
                </a:moveTo>
                <a:lnTo>
                  <a:pt x="8607" y="6772"/>
                </a:lnTo>
              </a:path>
              <a:path w="5433" h="11188">
                <a:moveTo>
                  <a:pt x="6821" y="7665"/>
                </a:moveTo>
                <a:cubicBezTo>
                  <a:pt x="6906" y="7625"/>
                  <a:pt x="6955" y="7600"/>
                  <a:pt x="7045" y="7590"/>
                </a:cubicBezTo>
              </a:path>
              <a:path w="5433" h="11188">
                <a:moveTo>
                  <a:pt x="6945" y="7789"/>
                </a:moveTo>
                <a:cubicBezTo>
                  <a:pt x="7004" y="7789"/>
                  <a:pt x="7030" y="7786"/>
                  <a:pt x="7069" y="7764"/>
                </a:cubicBezTo>
              </a:path>
              <a:path w="5433" h="11188">
                <a:moveTo>
                  <a:pt x="7739" y="7764"/>
                </a:moveTo>
                <a:cubicBezTo>
                  <a:pt x="7739" y="7756"/>
                  <a:pt x="7739" y="7747"/>
                  <a:pt x="7739" y="7739"/>
                </a:cubicBezTo>
              </a:path>
              <a:path w="5433" h="11188">
                <a:moveTo>
                  <a:pt x="8235" y="7764"/>
                </a:moveTo>
                <a:cubicBezTo>
                  <a:pt x="8243" y="7756"/>
                  <a:pt x="8252" y="7747"/>
                  <a:pt x="8260" y="7739"/>
                </a:cubicBezTo>
              </a:path>
              <a:path w="5433" h="11188">
                <a:moveTo>
                  <a:pt x="8260" y="7739"/>
                </a:moveTo>
                <a:lnTo>
                  <a:pt x="8260" y="7739"/>
                </a:lnTo>
              </a:path>
              <a:path w="5433" h="11188">
                <a:moveTo>
                  <a:pt x="8483" y="7317"/>
                </a:moveTo>
                <a:cubicBezTo>
                  <a:pt x="8587" y="7252"/>
                  <a:pt x="8569" y="7247"/>
                  <a:pt x="8682" y="7268"/>
                </a:cubicBezTo>
              </a:path>
              <a:path w="5433" h="11188">
                <a:moveTo>
                  <a:pt x="8880" y="7516"/>
                </a:moveTo>
                <a:cubicBezTo>
                  <a:pt x="8880" y="7481"/>
                  <a:pt x="8875" y="7463"/>
                  <a:pt x="8855" y="7441"/>
                </a:cubicBezTo>
              </a:path>
              <a:path w="5433" h="11188">
                <a:moveTo>
                  <a:pt x="8558" y="8533"/>
                </a:moveTo>
                <a:lnTo>
                  <a:pt x="8558" y="8533"/>
                </a:lnTo>
                <a:lnTo>
                  <a:pt x="8558" y="8533"/>
                </a:lnTo>
              </a:path>
              <a:path w="5433" h="11188">
                <a:moveTo>
                  <a:pt x="7491" y="8731"/>
                </a:moveTo>
                <a:cubicBezTo>
                  <a:pt x="7508" y="8731"/>
                  <a:pt x="7524" y="8731"/>
                  <a:pt x="7541" y="8731"/>
                </a:cubicBezTo>
              </a:path>
              <a:path w="5433" h="11188">
                <a:moveTo>
                  <a:pt x="7466" y="8880"/>
                </a:moveTo>
                <a:cubicBezTo>
                  <a:pt x="7533" y="8858"/>
                  <a:pt x="7551" y="8853"/>
                  <a:pt x="7590" y="8830"/>
                </a:cubicBezTo>
              </a:path>
              <a:path w="5433" h="11188">
                <a:moveTo>
                  <a:pt x="7590" y="8830"/>
                </a:moveTo>
                <a:lnTo>
                  <a:pt x="7590" y="8830"/>
                </a:lnTo>
              </a:path>
              <a:path w="5433" h="11188">
                <a:moveTo>
                  <a:pt x="8086" y="9178"/>
                </a:moveTo>
                <a:cubicBezTo>
                  <a:pt x="8168" y="9151"/>
                  <a:pt x="8201" y="9140"/>
                  <a:pt x="8260" y="9128"/>
                </a:cubicBezTo>
              </a:path>
              <a:path w="5433" h="11188">
                <a:moveTo>
                  <a:pt x="3845" y="14734"/>
                </a:moveTo>
                <a:lnTo>
                  <a:pt x="3845" y="14734"/>
                </a:lnTo>
                <a:lnTo>
                  <a:pt x="3845" y="14734"/>
                </a:lnTo>
              </a:path>
              <a:path w="5433" h="11188">
                <a:moveTo>
                  <a:pt x="3845" y="14734"/>
                </a:moveTo>
                <a:lnTo>
                  <a:pt x="3845" y="14734"/>
                </a:lnTo>
              </a:path>
              <a:path w="5433" h="11188">
                <a:moveTo>
                  <a:pt x="4812" y="14486"/>
                </a:moveTo>
                <a:cubicBezTo>
                  <a:pt x="4812" y="14494"/>
                  <a:pt x="4812" y="14503"/>
                  <a:pt x="4812" y="14511"/>
                </a:cubicBezTo>
              </a:path>
              <a:path w="5433" h="11188">
                <a:moveTo>
                  <a:pt x="4390" y="15503"/>
                </a:moveTo>
                <a:lnTo>
                  <a:pt x="4390" y="15503"/>
                </a:lnTo>
              </a:path>
              <a:path w="5433" h="11188">
                <a:moveTo>
                  <a:pt x="4911" y="15354"/>
                </a:moveTo>
                <a:cubicBezTo>
                  <a:pt x="4928" y="15337"/>
                  <a:pt x="4944" y="15321"/>
                  <a:pt x="4961" y="15304"/>
                </a:cubicBezTo>
              </a:path>
              <a:path w="5433" h="11188">
                <a:moveTo>
                  <a:pt x="5060" y="16594"/>
                </a:moveTo>
                <a:cubicBezTo>
                  <a:pt x="5088" y="16594"/>
                  <a:pt x="5099" y="16592"/>
                  <a:pt x="5110" y="16570"/>
                </a:cubicBezTo>
              </a:path>
              <a:path w="5433" h="11188">
                <a:moveTo>
                  <a:pt x="3448" y="17041"/>
                </a:moveTo>
                <a:cubicBezTo>
                  <a:pt x="3488" y="16987"/>
                  <a:pt x="3504" y="16964"/>
                  <a:pt x="3572" y="16942"/>
                </a:cubicBezTo>
              </a:path>
              <a:path w="5433" h="11188">
                <a:moveTo>
                  <a:pt x="3522" y="17165"/>
                </a:moveTo>
                <a:cubicBezTo>
                  <a:pt x="3584" y="17153"/>
                  <a:pt x="3614" y="17126"/>
                  <a:pt x="3671" y="17090"/>
                </a:cubicBezTo>
              </a:path>
              <a:path w="5433" h="11188">
                <a:moveTo>
                  <a:pt x="3820" y="17835"/>
                </a:moveTo>
                <a:cubicBezTo>
                  <a:pt x="3855" y="17776"/>
                  <a:pt x="3884" y="17757"/>
                  <a:pt x="3919" y="17711"/>
                </a:cubicBezTo>
              </a:path>
              <a:path w="5433" h="11188">
                <a:moveTo>
                  <a:pt x="3845" y="17959"/>
                </a:moveTo>
                <a:cubicBezTo>
                  <a:pt x="3876" y="17906"/>
                  <a:pt x="3935" y="17874"/>
                  <a:pt x="3994" y="17835"/>
                </a:cubicBezTo>
              </a:path>
              <a:path w="5433" h="11188">
                <a:moveTo>
                  <a:pt x="4961" y="17239"/>
                </a:moveTo>
                <a:cubicBezTo>
                  <a:pt x="4979" y="17378"/>
                  <a:pt x="5037" y="17498"/>
                  <a:pt x="5060" y="17636"/>
                </a:cubicBezTo>
                <a:cubicBezTo>
                  <a:pt x="5060" y="17653"/>
                  <a:pt x="5060" y="17669"/>
                  <a:pt x="5060" y="17686"/>
                </a:cubicBezTo>
              </a:path>
              <a:path w="5433" h="11188">
                <a:moveTo>
                  <a:pt x="5333" y="17388"/>
                </a:moveTo>
                <a:cubicBezTo>
                  <a:pt x="5346" y="17479"/>
                  <a:pt x="5368" y="17550"/>
                  <a:pt x="5407" y="17636"/>
                </a:cubicBezTo>
              </a:path>
              <a:path w="5433" h="11188">
                <a:moveTo>
                  <a:pt x="5333" y="17264"/>
                </a:moveTo>
                <a:lnTo>
                  <a:pt x="5333" y="1726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52360" y="5545080"/>
            <a:ext cx="1089360" cy="1135080"/>
          </a:xfrm>
          <a:custGeom>
            <a:avLst/>
            <a:gdLst/>
            <a:ahLst/>
            <a:rect l="l" t="t" r="r" b="b"/>
            <a:pathLst>
              <a:path w="3027" h="3151">
                <a:moveTo>
                  <a:pt x="3200" y="15503"/>
                </a:moveTo>
                <a:cubicBezTo>
                  <a:pt x="3233" y="15470"/>
                  <a:pt x="3309" y="15448"/>
                  <a:pt x="3373" y="15429"/>
                </a:cubicBezTo>
              </a:path>
              <a:path w="3027" h="3151">
                <a:moveTo>
                  <a:pt x="3770" y="15429"/>
                </a:moveTo>
                <a:cubicBezTo>
                  <a:pt x="3710" y="15407"/>
                  <a:pt x="3767" y="15642"/>
                  <a:pt x="3770" y="15726"/>
                </a:cubicBezTo>
                <a:cubicBezTo>
                  <a:pt x="3770" y="15734"/>
                  <a:pt x="3770" y="15743"/>
                  <a:pt x="3770" y="15751"/>
                </a:cubicBezTo>
              </a:path>
              <a:path w="3027" h="3151">
                <a:moveTo>
                  <a:pt x="4018" y="15974"/>
                </a:moveTo>
                <a:cubicBezTo>
                  <a:pt x="4039" y="16058"/>
                  <a:pt x="4041" y="16077"/>
                  <a:pt x="4068" y="16123"/>
                </a:cubicBezTo>
                <a:cubicBezTo>
                  <a:pt x="4178" y="16086"/>
                  <a:pt x="4276" y="16015"/>
                  <a:pt x="4390" y="15974"/>
                </a:cubicBezTo>
                <a:cubicBezTo>
                  <a:pt x="4431" y="15959"/>
                  <a:pt x="4636" y="15931"/>
                  <a:pt x="4638" y="15900"/>
                </a:cubicBezTo>
                <a:cubicBezTo>
                  <a:pt x="4638" y="15875"/>
                  <a:pt x="4638" y="15850"/>
                  <a:pt x="4638" y="15825"/>
                </a:cubicBezTo>
              </a:path>
              <a:path w="3027" h="3151">
                <a:moveTo>
                  <a:pt x="4638" y="16520"/>
                </a:moveTo>
                <a:cubicBezTo>
                  <a:pt x="4638" y="16463"/>
                  <a:pt x="4638" y="16666"/>
                  <a:pt x="4638" y="16694"/>
                </a:cubicBezTo>
                <a:cubicBezTo>
                  <a:pt x="4738" y="16680"/>
                  <a:pt x="4806" y="16652"/>
                  <a:pt x="4887" y="16594"/>
                </a:cubicBezTo>
              </a:path>
              <a:path w="3027" h="3151">
                <a:moveTo>
                  <a:pt x="4787" y="16396"/>
                </a:moveTo>
                <a:cubicBezTo>
                  <a:pt x="4787" y="16534"/>
                  <a:pt x="4775" y="16723"/>
                  <a:pt x="4812" y="16818"/>
                </a:cubicBezTo>
                <a:cubicBezTo>
                  <a:pt x="4812" y="16826"/>
                  <a:pt x="4812" y="16834"/>
                  <a:pt x="4812" y="16842"/>
                </a:cubicBezTo>
              </a:path>
              <a:path w="3027" h="3151">
                <a:moveTo>
                  <a:pt x="4018" y="16694"/>
                </a:moveTo>
                <a:cubicBezTo>
                  <a:pt x="4038" y="16837"/>
                  <a:pt x="4043" y="16970"/>
                  <a:pt x="4043" y="17115"/>
                </a:cubicBezTo>
              </a:path>
              <a:path w="3027" h="3151">
                <a:moveTo>
                  <a:pt x="4266" y="16619"/>
                </a:moveTo>
                <a:cubicBezTo>
                  <a:pt x="4249" y="16739"/>
                  <a:pt x="4194" y="16885"/>
                  <a:pt x="4291" y="16991"/>
                </a:cubicBezTo>
                <a:cubicBezTo>
                  <a:pt x="4316" y="16999"/>
                  <a:pt x="4341" y="17008"/>
                  <a:pt x="4366" y="17016"/>
                </a:cubicBezTo>
                <a:cubicBezTo>
                  <a:pt x="4444" y="16923"/>
                  <a:pt x="4576" y="16786"/>
                  <a:pt x="4440" y="16669"/>
                </a:cubicBezTo>
                <a:cubicBezTo>
                  <a:pt x="4375" y="16647"/>
                  <a:pt x="4360" y="16639"/>
                  <a:pt x="4316" y="16644"/>
                </a:cubicBezTo>
              </a:path>
              <a:path w="3027" h="3151">
                <a:moveTo>
                  <a:pt x="5383" y="16272"/>
                </a:moveTo>
                <a:cubicBezTo>
                  <a:pt x="5399" y="16355"/>
                  <a:pt x="5407" y="16466"/>
                  <a:pt x="5432" y="16545"/>
                </a:cubicBezTo>
                <a:cubicBezTo>
                  <a:pt x="5440" y="16553"/>
                  <a:pt x="5449" y="16562"/>
                  <a:pt x="5457" y="16570"/>
                </a:cubicBezTo>
              </a:path>
              <a:path w="3027" h="3151">
                <a:moveTo>
                  <a:pt x="4291" y="17587"/>
                </a:moveTo>
                <a:cubicBezTo>
                  <a:pt x="4310" y="17718"/>
                  <a:pt x="4329" y="17855"/>
                  <a:pt x="4366" y="17983"/>
                </a:cubicBezTo>
                <a:cubicBezTo>
                  <a:pt x="4366" y="17975"/>
                  <a:pt x="4366" y="17967"/>
                  <a:pt x="4366" y="17959"/>
                </a:cubicBezTo>
              </a:path>
              <a:path w="3027" h="3151">
                <a:moveTo>
                  <a:pt x="4614" y="17462"/>
                </a:moveTo>
                <a:cubicBezTo>
                  <a:pt x="4595" y="17574"/>
                  <a:pt x="4550" y="17725"/>
                  <a:pt x="4614" y="17835"/>
                </a:cubicBezTo>
                <a:cubicBezTo>
                  <a:pt x="4639" y="17851"/>
                  <a:pt x="4663" y="17868"/>
                  <a:pt x="4688" y="17884"/>
                </a:cubicBezTo>
                <a:cubicBezTo>
                  <a:pt x="4792" y="17806"/>
                  <a:pt x="4836" y="17708"/>
                  <a:pt x="4738" y="17587"/>
                </a:cubicBezTo>
                <a:cubicBezTo>
                  <a:pt x="4681" y="17549"/>
                  <a:pt x="4656" y="17554"/>
                  <a:pt x="4663" y="17512"/>
                </a:cubicBezTo>
              </a:path>
              <a:path w="3027" h="3151">
                <a:moveTo>
                  <a:pt x="4887" y="17487"/>
                </a:moveTo>
                <a:cubicBezTo>
                  <a:pt x="4894" y="17533"/>
                  <a:pt x="4891" y="17609"/>
                  <a:pt x="4936" y="17611"/>
                </a:cubicBezTo>
                <a:cubicBezTo>
                  <a:pt x="5020" y="17615"/>
                  <a:pt x="5065" y="17593"/>
                  <a:pt x="5110" y="17537"/>
                </a:cubicBezTo>
              </a:path>
              <a:path w="3027" h="3151">
                <a:moveTo>
                  <a:pt x="5507" y="17438"/>
                </a:moveTo>
                <a:cubicBezTo>
                  <a:pt x="5562" y="17493"/>
                  <a:pt x="5587" y="17491"/>
                  <a:pt x="5581" y="17537"/>
                </a:cubicBezTo>
                <a:cubicBezTo>
                  <a:pt x="5564" y="17453"/>
                  <a:pt x="5529" y="17340"/>
                  <a:pt x="5581" y="17289"/>
                </a:cubicBezTo>
                <a:cubicBezTo>
                  <a:pt x="5682" y="17334"/>
                  <a:pt x="5717" y="17468"/>
                  <a:pt x="5755" y="17413"/>
                </a:cubicBezTo>
              </a:path>
              <a:path w="3027" h="3151">
                <a:moveTo>
                  <a:pt x="5730" y="16867"/>
                </a:moveTo>
                <a:cubicBezTo>
                  <a:pt x="5828" y="16851"/>
                  <a:pt x="5886" y="16836"/>
                  <a:pt x="5829" y="16966"/>
                </a:cubicBezTo>
                <a:cubicBezTo>
                  <a:pt x="5821" y="16974"/>
                  <a:pt x="5812" y="16983"/>
                  <a:pt x="5804" y="16991"/>
                </a:cubicBezTo>
                <a:cubicBezTo>
                  <a:pt x="5877" y="16979"/>
                  <a:pt x="6010" y="16909"/>
                  <a:pt x="6028" y="17041"/>
                </a:cubicBezTo>
                <a:cubicBezTo>
                  <a:pt x="6047" y="17178"/>
                  <a:pt x="5923" y="17249"/>
                  <a:pt x="5829" y="17239"/>
                </a:cubicBezTo>
              </a:path>
              <a:path w="3027" h="3151">
                <a:moveTo>
                  <a:pt x="3324" y="17562"/>
                </a:moveTo>
                <a:cubicBezTo>
                  <a:pt x="3438" y="17854"/>
                  <a:pt x="3541" y="18159"/>
                  <a:pt x="3646" y="18455"/>
                </a:cubicBezTo>
                <a:cubicBezTo>
                  <a:pt x="3654" y="18488"/>
                  <a:pt x="3663" y="18521"/>
                  <a:pt x="3671" y="18554"/>
                </a:cubicBezTo>
                <a:cubicBezTo>
                  <a:pt x="3849" y="18513"/>
                  <a:pt x="4038" y="18475"/>
                  <a:pt x="4217" y="18430"/>
                </a:cubicBezTo>
                <a:cubicBezTo>
                  <a:pt x="4712" y="18307"/>
                  <a:pt x="5159" y="18179"/>
                  <a:pt x="5581" y="17884"/>
                </a:cubicBezTo>
                <a:cubicBezTo>
                  <a:pt x="5747" y="17768"/>
                  <a:pt x="5957" y="17601"/>
                  <a:pt x="6127" y="17537"/>
                </a:cubicBezTo>
                <a:cubicBezTo>
                  <a:pt x="6147" y="17530"/>
                  <a:pt x="6206" y="17518"/>
                  <a:pt x="6226" y="17512"/>
                </a:cubicBezTo>
                <a:cubicBezTo>
                  <a:pt x="6143" y="17242"/>
                  <a:pt x="6117" y="16954"/>
                  <a:pt x="6102" y="16669"/>
                </a:cubicBezTo>
                <a:cubicBezTo>
                  <a:pt x="6093" y="16491"/>
                  <a:pt x="6088" y="16517"/>
                  <a:pt x="6052" y="16421"/>
                </a:cubicBezTo>
                <a:cubicBezTo>
                  <a:pt x="5988" y="16406"/>
                  <a:pt x="5951" y="16388"/>
                  <a:pt x="5879" y="16396"/>
                </a:cubicBezTo>
                <a:cubicBezTo>
                  <a:pt x="5681" y="16419"/>
                  <a:pt x="5500" y="16624"/>
                  <a:pt x="5333" y="16718"/>
                </a:cubicBezTo>
                <a:cubicBezTo>
                  <a:pt x="5028" y="16890"/>
                  <a:pt x="4738" y="17057"/>
                  <a:pt x="4440" y="17239"/>
                </a:cubicBezTo>
                <a:cubicBezTo>
                  <a:pt x="4240" y="17361"/>
                  <a:pt x="4031" y="17441"/>
                  <a:pt x="3820" y="17537"/>
                </a:cubicBezTo>
                <a:cubicBezTo>
                  <a:pt x="3746" y="17571"/>
                  <a:pt x="3648" y="17615"/>
                  <a:pt x="3597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51080" y="2320920"/>
            <a:ext cx="1473120" cy="1243080"/>
          </a:xfrm>
          <a:custGeom>
            <a:avLst/>
            <a:gdLst/>
            <a:ahLst/>
            <a:rect l="l" t="t" r="r" b="b"/>
            <a:pathLst>
              <a:path w="4094" h="3449">
                <a:moveTo>
                  <a:pt x="6251" y="6524"/>
                </a:moveTo>
                <a:cubicBezTo>
                  <a:pt x="6307" y="6691"/>
                  <a:pt x="6380" y="6891"/>
                  <a:pt x="6474" y="7045"/>
                </a:cubicBezTo>
                <a:cubicBezTo>
                  <a:pt x="6491" y="7061"/>
                  <a:pt x="6507" y="7078"/>
                  <a:pt x="6524" y="7094"/>
                </a:cubicBezTo>
                <a:cubicBezTo>
                  <a:pt x="6556" y="6940"/>
                  <a:pt x="6565" y="6761"/>
                  <a:pt x="6573" y="6598"/>
                </a:cubicBezTo>
                <a:cubicBezTo>
                  <a:pt x="6573" y="6573"/>
                  <a:pt x="6573" y="6565"/>
                  <a:pt x="6598" y="6573"/>
                </a:cubicBezTo>
              </a:path>
              <a:path w="4094" h="3449">
                <a:moveTo>
                  <a:pt x="7218" y="6499"/>
                </a:moveTo>
                <a:cubicBezTo>
                  <a:pt x="7256" y="6658"/>
                  <a:pt x="7320" y="6811"/>
                  <a:pt x="7342" y="6970"/>
                </a:cubicBezTo>
              </a:path>
              <a:path w="4094" h="3449">
                <a:moveTo>
                  <a:pt x="7764" y="6697"/>
                </a:moveTo>
                <a:cubicBezTo>
                  <a:pt x="7764" y="6786"/>
                  <a:pt x="7727" y="6951"/>
                  <a:pt x="7888" y="6921"/>
                </a:cubicBezTo>
                <a:cubicBezTo>
                  <a:pt x="7999" y="6901"/>
                  <a:pt x="7988" y="6843"/>
                  <a:pt x="8037" y="6772"/>
                </a:cubicBezTo>
                <a:cubicBezTo>
                  <a:pt x="8063" y="6890"/>
                  <a:pt x="8132" y="6978"/>
                  <a:pt x="8260" y="6871"/>
                </a:cubicBezTo>
                <a:cubicBezTo>
                  <a:pt x="8353" y="6794"/>
                  <a:pt x="8365" y="6726"/>
                  <a:pt x="8285" y="6672"/>
                </a:cubicBezTo>
              </a:path>
              <a:path w="4094" h="3449">
                <a:moveTo>
                  <a:pt x="8806" y="6449"/>
                </a:moveTo>
                <a:cubicBezTo>
                  <a:pt x="8833" y="6571"/>
                  <a:pt x="8878" y="6682"/>
                  <a:pt x="8930" y="6796"/>
                </a:cubicBezTo>
                <a:cubicBezTo>
                  <a:pt x="8950" y="6715"/>
                  <a:pt x="8989" y="6647"/>
                  <a:pt x="9079" y="6623"/>
                </a:cubicBezTo>
                <a:cubicBezTo>
                  <a:pt x="9188" y="6594"/>
                  <a:pt x="9220" y="6713"/>
                  <a:pt x="9227" y="6796"/>
                </a:cubicBezTo>
                <a:cubicBezTo>
                  <a:pt x="9227" y="6804"/>
                  <a:pt x="9227" y="6813"/>
                  <a:pt x="9227" y="6821"/>
                </a:cubicBezTo>
              </a:path>
              <a:path w="4094" h="3449">
                <a:moveTo>
                  <a:pt x="7392" y="7590"/>
                </a:moveTo>
                <a:cubicBezTo>
                  <a:pt x="7328" y="7569"/>
                  <a:pt x="7431" y="7522"/>
                  <a:pt x="7466" y="7491"/>
                </a:cubicBezTo>
                <a:cubicBezTo>
                  <a:pt x="7558" y="7637"/>
                  <a:pt x="7582" y="7747"/>
                  <a:pt x="7466" y="7888"/>
                </a:cubicBezTo>
                <a:cubicBezTo>
                  <a:pt x="7450" y="7896"/>
                  <a:pt x="7433" y="7905"/>
                  <a:pt x="7417" y="7913"/>
                </a:cubicBezTo>
                <a:cubicBezTo>
                  <a:pt x="7417" y="7801"/>
                  <a:pt x="7435" y="7817"/>
                  <a:pt x="7516" y="7863"/>
                </a:cubicBezTo>
                <a:cubicBezTo>
                  <a:pt x="7576" y="7897"/>
                  <a:pt x="7548" y="7899"/>
                  <a:pt x="7590" y="7913"/>
                </a:cubicBezTo>
              </a:path>
              <a:path w="4094" h="3449">
                <a:moveTo>
                  <a:pt x="8012" y="7441"/>
                </a:moveTo>
                <a:cubicBezTo>
                  <a:pt x="8012" y="7405"/>
                  <a:pt x="8064" y="7682"/>
                  <a:pt x="8086" y="7739"/>
                </a:cubicBezTo>
                <a:cubicBezTo>
                  <a:pt x="8109" y="7762"/>
                  <a:pt x="8117" y="7766"/>
                  <a:pt x="8111" y="7789"/>
                </a:cubicBezTo>
              </a:path>
              <a:path w="4094" h="3449">
                <a:moveTo>
                  <a:pt x="8384" y="7417"/>
                </a:moveTo>
                <a:cubicBezTo>
                  <a:pt x="8492" y="7452"/>
                  <a:pt x="8540" y="7445"/>
                  <a:pt x="8558" y="7565"/>
                </a:cubicBezTo>
                <a:cubicBezTo>
                  <a:pt x="8569" y="7641"/>
                  <a:pt x="8537" y="7615"/>
                  <a:pt x="8483" y="7615"/>
                </a:cubicBezTo>
              </a:path>
              <a:path w="4094" h="3449">
                <a:moveTo>
                  <a:pt x="9103" y="7317"/>
                </a:moveTo>
                <a:cubicBezTo>
                  <a:pt x="9061" y="7274"/>
                  <a:pt x="9162" y="7216"/>
                  <a:pt x="9227" y="7193"/>
                </a:cubicBezTo>
                <a:cubicBezTo>
                  <a:pt x="9235" y="7193"/>
                  <a:pt x="9244" y="7193"/>
                  <a:pt x="9252" y="7193"/>
                </a:cubicBezTo>
                <a:cubicBezTo>
                  <a:pt x="9246" y="7239"/>
                  <a:pt x="9236" y="7273"/>
                  <a:pt x="9227" y="7317"/>
                </a:cubicBezTo>
                <a:cubicBezTo>
                  <a:pt x="9260" y="7317"/>
                  <a:pt x="9341" y="7297"/>
                  <a:pt x="9351" y="7342"/>
                </a:cubicBezTo>
                <a:cubicBezTo>
                  <a:pt x="9373" y="7445"/>
                  <a:pt x="9318" y="7528"/>
                  <a:pt x="9227" y="7565"/>
                </a:cubicBezTo>
                <a:cubicBezTo>
                  <a:pt x="9202" y="7573"/>
                  <a:pt x="9178" y="7582"/>
                  <a:pt x="9153" y="7590"/>
                </a:cubicBezTo>
              </a:path>
              <a:path w="4094" h="3449">
                <a:moveTo>
                  <a:pt x="7689" y="8136"/>
                </a:moveTo>
                <a:cubicBezTo>
                  <a:pt x="7709" y="8176"/>
                  <a:pt x="7718" y="8183"/>
                  <a:pt x="7714" y="8210"/>
                </a:cubicBezTo>
                <a:cubicBezTo>
                  <a:pt x="7929" y="8173"/>
                  <a:pt x="8143" y="8124"/>
                  <a:pt x="8359" y="8111"/>
                </a:cubicBezTo>
                <a:cubicBezTo>
                  <a:pt x="8401" y="8111"/>
                  <a:pt x="8409" y="8111"/>
                  <a:pt x="8434" y="8111"/>
                </a:cubicBezTo>
                <a:cubicBezTo>
                  <a:pt x="8434" y="8045"/>
                  <a:pt x="8434" y="7979"/>
                  <a:pt x="8434" y="7913"/>
                </a:cubicBezTo>
              </a:path>
              <a:path w="4094" h="3449">
                <a:moveTo>
                  <a:pt x="7987" y="8533"/>
                </a:moveTo>
                <a:cubicBezTo>
                  <a:pt x="8005" y="8462"/>
                  <a:pt x="8066" y="8439"/>
                  <a:pt x="8136" y="8409"/>
                </a:cubicBezTo>
                <a:cubicBezTo>
                  <a:pt x="8193" y="8390"/>
                  <a:pt x="8200" y="8381"/>
                  <a:pt x="8235" y="8384"/>
                </a:cubicBezTo>
                <a:cubicBezTo>
                  <a:pt x="8228" y="8488"/>
                  <a:pt x="8232" y="8513"/>
                  <a:pt x="8161" y="8582"/>
                </a:cubicBezTo>
                <a:cubicBezTo>
                  <a:pt x="8244" y="8566"/>
                  <a:pt x="8305" y="8492"/>
                  <a:pt x="8359" y="8582"/>
                </a:cubicBezTo>
                <a:cubicBezTo>
                  <a:pt x="8422" y="8686"/>
                  <a:pt x="8334" y="8793"/>
                  <a:pt x="8235" y="8830"/>
                </a:cubicBezTo>
                <a:cubicBezTo>
                  <a:pt x="8194" y="8830"/>
                  <a:pt x="8186" y="8830"/>
                  <a:pt x="8161" y="8830"/>
                </a:cubicBezTo>
              </a:path>
              <a:path w="4094" h="3449">
                <a:moveTo>
                  <a:pt x="8731" y="8334"/>
                </a:moveTo>
                <a:cubicBezTo>
                  <a:pt x="8768" y="8274"/>
                  <a:pt x="8810" y="8264"/>
                  <a:pt x="8880" y="8235"/>
                </a:cubicBezTo>
                <a:cubicBezTo>
                  <a:pt x="8868" y="8287"/>
                  <a:pt x="8799" y="8381"/>
                  <a:pt x="8830" y="8384"/>
                </a:cubicBezTo>
                <a:cubicBezTo>
                  <a:pt x="8897" y="8384"/>
                  <a:pt x="8931" y="8380"/>
                  <a:pt x="8979" y="8359"/>
                </a:cubicBezTo>
                <a:cubicBezTo>
                  <a:pt x="9026" y="8441"/>
                  <a:pt x="9056" y="8522"/>
                  <a:pt x="8954" y="8582"/>
                </a:cubicBezTo>
                <a:cubicBezTo>
                  <a:pt x="8889" y="8604"/>
                  <a:pt x="8874" y="8612"/>
                  <a:pt x="8830" y="8607"/>
                </a:cubicBezTo>
              </a:path>
              <a:path w="4094" h="3449">
                <a:moveTo>
                  <a:pt x="8136" y="9277"/>
                </a:moveTo>
                <a:cubicBezTo>
                  <a:pt x="8230" y="9258"/>
                  <a:pt x="8316" y="9217"/>
                  <a:pt x="8409" y="9178"/>
                </a:cubicBezTo>
              </a:path>
              <a:path w="4094" h="3449">
                <a:moveTo>
                  <a:pt x="8756" y="9103"/>
                </a:moveTo>
                <a:cubicBezTo>
                  <a:pt x="8785" y="9075"/>
                  <a:pt x="8793" y="9062"/>
                  <a:pt x="8781" y="9029"/>
                </a:cubicBezTo>
                <a:cubicBezTo>
                  <a:pt x="8645" y="8999"/>
                  <a:pt x="8600" y="9063"/>
                  <a:pt x="8533" y="9178"/>
                </a:cubicBezTo>
                <a:cubicBezTo>
                  <a:pt x="8665" y="9205"/>
                  <a:pt x="8705" y="9088"/>
                  <a:pt x="8781" y="9079"/>
                </a:cubicBezTo>
                <a:cubicBezTo>
                  <a:pt x="8862" y="9069"/>
                  <a:pt x="8893" y="9309"/>
                  <a:pt x="8905" y="9351"/>
                </a:cubicBezTo>
                <a:cubicBezTo>
                  <a:pt x="8954" y="9384"/>
                  <a:pt x="8948" y="9336"/>
                  <a:pt x="9029" y="9227"/>
                </a:cubicBezTo>
              </a:path>
              <a:path w="4094" h="3449">
                <a:moveTo>
                  <a:pt x="9153" y="9079"/>
                </a:moveTo>
                <a:cubicBezTo>
                  <a:pt x="9113" y="9092"/>
                  <a:pt x="9004" y="9205"/>
                  <a:pt x="9029" y="9277"/>
                </a:cubicBezTo>
                <a:cubicBezTo>
                  <a:pt x="9086" y="9438"/>
                  <a:pt x="9308" y="9231"/>
                  <a:pt x="9351" y="9203"/>
                </a:cubicBezTo>
              </a:path>
              <a:path w="4094" h="3449">
                <a:moveTo>
                  <a:pt x="9401" y="9128"/>
                </a:moveTo>
                <a:cubicBezTo>
                  <a:pt x="9401" y="9181"/>
                  <a:pt x="9400" y="9208"/>
                  <a:pt x="9426" y="9252"/>
                </a:cubicBezTo>
                <a:cubicBezTo>
                  <a:pt x="9417" y="9206"/>
                  <a:pt x="9358" y="9110"/>
                  <a:pt x="9426" y="9079"/>
                </a:cubicBezTo>
                <a:cubicBezTo>
                  <a:pt x="9494" y="9048"/>
                  <a:pt x="9558" y="9141"/>
                  <a:pt x="9599" y="9178"/>
                </a:cubicBezTo>
                <a:cubicBezTo>
                  <a:pt x="9599" y="9121"/>
                  <a:pt x="9569" y="9015"/>
                  <a:pt x="9624" y="8979"/>
                </a:cubicBezTo>
                <a:cubicBezTo>
                  <a:pt x="9752" y="8895"/>
                  <a:pt x="9796" y="9035"/>
                  <a:pt x="9823" y="9128"/>
                </a:cubicBezTo>
              </a:path>
              <a:path w="4094" h="3449">
                <a:moveTo>
                  <a:pt x="9798" y="8607"/>
                </a:moveTo>
                <a:cubicBezTo>
                  <a:pt x="9839" y="8580"/>
                  <a:pt x="9881" y="8560"/>
                  <a:pt x="9922" y="8533"/>
                </a:cubicBezTo>
                <a:cubicBezTo>
                  <a:pt x="9922" y="8590"/>
                  <a:pt x="9908" y="8629"/>
                  <a:pt x="9897" y="8682"/>
                </a:cubicBezTo>
                <a:cubicBezTo>
                  <a:pt x="10039" y="8692"/>
                  <a:pt x="10076" y="8692"/>
                  <a:pt x="9971" y="8806"/>
                </a:cubicBezTo>
                <a:cubicBezTo>
                  <a:pt x="9963" y="8814"/>
                  <a:pt x="9955" y="8822"/>
                  <a:pt x="9947" y="8830"/>
                </a:cubicBezTo>
              </a:path>
              <a:path w="4094" h="3449">
                <a:moveTo>
                  <a:pt x="8533" y="9897"/>
                </a:moveTo>
                <a:cubicBezTo>
                  <a:pt x="8819" y="9750"/>
                  <a:pt x="9119" y="9631"/>
                  <a:pt x="9401" y="9475"/>
                </a:cubicBezTo>
                <a:cubicBezTo>
                  <a:pt x="9697" y="9311"/>
                  <a:pt x="9984" y="9157"/>
                  <a:pt x="10294" y="9029"/>
                </a:cubicBezTo>
                <a:cubicBezTo>
                  <a:pt x="10311" y="9021"/>
                  <a:pt x="10327" y="9012"/>
                  <a:pt x="10344" y="9004"/>
                </a:cubicBezTo>
                <a:cubicBezTo>
                  <a:pt x="10331" y="8891"/>
                  <a:pt x="10316" y="8763"/>
                  <a:pt x="10269" y="8657"/>
                </a:cubicBezTo>
                <a:cubicBezTo>
                  <a:pt x="10216" y="8538"/>
                  <a:pt x="10116" y="8378"/>
                  <a:pt x="10021" y="8310"/>
                </a:cubicBezTo>
                <a:cubicBezTo>
                  <a:pt x="9928" y="8243"/>
                  <a:pt x="9836" y="8366"/>
                  <a:pt x="9748" y="8409"/>
                </a:cubicBezTo>
                <a:cubicBezTo>
                  <a:pt x="9498" y="8532"/>
                  <a:pt x="9236" y="8648"/>
                  <a:pt x="8979" y="8756"/>
                </a:cubicBezTo>
                <a:cubicBezTo>
                  <a:pt x="8753" y="8851"/>
                  <a:pt x="8535" y="8959"/>
                  <a:pt x="8310" y="9054"/>
                </a:cubicBezTo>
                <a:cubicBezTo>
                  <a:pt x="8224" y="9090"/>
                  <a:pt x="8126" y="9131"/>
                  <a:pt x="8037" y="9153"/>
                </a:cubicBezTo>
                <a:cubicBezTo>
                  <a:pt x="7978" y="9167"/>
                  <a:pt x="7922" y="9190"/>
                  <a:pt x="7863" y="9203"/>
                </a:cubicBezTo>
                <a:cubicBezTo>
                  <a:pt x="7889" y="9410"/>
                  <a:pt x="8005" y="9472"/>
                  <a:pt x="8161" y="9649"/>
                </a:cubicBezTo>
                <a:cubicBezTo>
                  <a:pt x="8196" y="9688"/>
                  <a:pt x="8316" y="9842"/>
                  <a:pt x="8359" y="9872"/>
                </a:cubicBezTo>
                <a:cubicBezTo>
                  <a:pt x="8359" y="9864"/>
                  <a:pt x="8359" y="9855"/>
                  <a:pt x="8359" y="98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5249880"/>
            <a:ext cx="133200" cy="376200"/>
          </a:xfrm>
          <a:custGeom>
            <a:avLst/>
            <a:gdLst/>
            <a:ahLst/>
            <a:rect l="l" t="t" r="r" b="b"/>
            <a:pathLst>
              <a:path w="373" h="1043">
                <a:moveTo>
                  <a:pt x="3076" y="14684"/>
                </a:moveTo>
                <a:cubicBezTo>
                  <a:pt x="3172" y="14643"/>
                  <a:pt x="3251" y="14606"/>
                  <a:pt x="3349" y="14585"/>
                </a:cubicBezTo>
              </a:path>
              <a:path w="373" h="1043">
                <a:moveTo>
                  <a:pt x="3125" y="14883"/>
                </a:moveTo>
                <a:cubicBezTo>
                  <a:pt x="3239" y="14826"/>
                  <a:pt x="3326" y="14791"/>
                  <a:pt x="3448" y="14759"/>
                </a:cubicBezTo>
              </a:path>
              <a:path w="373" h="1043">
                <a:moveTo>
                  <a:pt x="3249" y="15627"/>
                </a:moveTo>
                <a:cubicBezTo>
                  <a:pt x="3334" y="15599"/>
                  <a:pt x="3368" y="15586"/>
                  <a:pt x="3423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ew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olume of a Rectangular Prism WS (Pick 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2:29:41Z</dcterms:created>
  <dc:creator>TAMMY  COON</dc:creator>
  <dc:description/>
  <dc:language>en-US</dc:language>
  <cp:lastModifiedBy>demcgra</cp:lastModifiedBy>
  <dcterms:modified xsi:type="dcterms:W3CDTF">2012-02-22T17:32:59Z</dcterms:modified>
  <cp:revision>10</cp:revision>
  <dc:subject/>
  <dc:title>Unit 7: Measurement</dc:title>
</cp:coreProperties>
</file>